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9F3D-6673-466D-92C9-9A18F87F8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0382-91A2-4D48-B8AE-AE39D7560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6761-1237-4F7A-81C4-DD35EE1CB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5914-A931-4E41-9C09-C768EFA62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ACA6A-0377-4A6B-B93B-2939C54BA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89A1C-0237-45AA-BC93-5BADB5184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920D7-308A-400E-B927-18BECB5CF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E30C8-92F5-4E28-A93D-92E0D5354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85A06-6ECB-4831-9FD1-ACA053BF9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8AED1-0AFE-4BAF-91E5-71F537C01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B94D9-280B-4DB7-9EDB-5A94F147A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68D4-DC0B-4BF8-B32B-5276FB2C1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6EE46-B731-4CF5-9EA7-70587C97D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0C164-9494-4ECC-AC3C-BFDE6D5FE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3E9F7-8CF2-4A04-AB1A-2126ECF0E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0A716-3C41-4D02-A172-3E9581E17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6790C-7A46-400F-A913-0F128BF53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8B8A-AC61-4DC1-88D1-D6C1E37C2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F25E-940E-45A8-8965-7378F8358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1DFB-6F82-4FE3-82F8-4593EF5F3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F740-F322-4BE7-BE07-6DB7DA1ED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00B7-2F0C-44DE-8D9F-F3EBF6091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7929-EC9C-4A8D-B6BC-32F5673EA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E61B-8AD8-4A27-9AEE-AE26909E1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2D713-A8A4-4587-9E64-89F269C723BE}" type="datetime">
              <a:rPr b="0" lang="pl-PL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518EC-F047-419A-9718-932405FE257F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6AD6B-11C8-46FF-9928-9769510B21C0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EB282-705D-4184-A847-539E7E8C756B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476000" y="2060280"/>
            <a:ext cx="73422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Kształtowanie sieci szkolnictwa ponadgimnazjalnego </a:t>
            </a:r>
            <a:br>
              <a:rPr sz="2400"/>
            </a:b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w Powiecie Starogardzkim</a:t>
            </a:r>
            <a:br>
              <a:rPr sz="2400"/>
            </a:br>
            <a:br>
              <a:rPr sz="2400"/>
            </a:b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Perspektywa 20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8B973-35CC-4331-8B97-F2539320C4FE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547280" y="1125000"/>
            <a:ext cx="74170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Planowane zadania doradztwa edukacyjno-zawodowego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omoc w planowaniu kształcenia i kariery zawodowe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udostępnianie informacji edukacyjnych i zawodowych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rowadzenie zajęć związanych z wyborem kierunków kształcenia i zawod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nawiązanie współpracy szkół ze specjalistami z doradztwa zawodowe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indywidualne konsultacje dla uczniów, nauczycie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arsztaty i spotkania z rodzicam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udział w konkursach, olimpiadach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spotkania uczniów i ich rodziców z pracodawcam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organizowanie targów pracy z udziałem uczniów gimnazjó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Instytucje współpracujące: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Starostwo Powiatowe w Starogardzie Gdańskim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ładze gmin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Starogardzki Klub Biznesu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Związek Pracodawców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Cech Rzemiosł Różnych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owiatowy Urząd Pracy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oradnia Psychologiczno – Pedagogiczna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dyrekcje szkół wszystkich typów kształceni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rostokąt 1"/>
          <p:cNvSpPr/>
          <p:nvPr/>
        </p:nvSpPr>
        <p:spPr>
          <a:xfrm>
            <a:off x="2050920" y="404640"/>
            <a:ext cx="669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Zadania doradztwa edukacyjno - zawodowe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ymbol zastępczy numeru slajdu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DAF6B-D13E-4983-B12A-5A4599009893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2133720"/>
          <a:ext cx="9036000" cy="2652480"/>
        </p:xfrm>
        <a:graphic>
          <a:graphicData uri="http://schemas.openxmlformats.org/drawingml/2006/table">
            <a:tbl>
              <a:tblPr/>
              <a:tblGrid>
                <a:gridCol w="3059280"/>
                <a:gridCol w="863280"/>
                <a:gridCol w="936720"/>
                <a:gridCol w="936720"/>
                <a:gridCol w="1008000"/>
                <a:gridCol w="1008000"/>
                <a:gridCol w="1224000"/>
              </a:tblGrid>
              <a:tr h="27432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l-P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zwa jednostki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l-P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l-P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l-P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l-P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l-P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l-P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z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l-P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S Ekonomiczny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8 2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9 025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 053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8 252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 330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4 876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56840"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l-P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S Zawodowych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2 745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 431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1 286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8 697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 886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7 045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56840"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l-P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chnikum w Owidz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0 407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2 799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0 730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3 919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 820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280 6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56840"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l-P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S Rolniczych CKP w Bolesławowi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7 532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5 067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4 423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3 981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0 237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381 240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56840"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l-P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S Ponadgimnazjalnych w Sk</a:t>
                      </a:r>
                      <a:r>
                        <a:rPr b="1" i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ó</a:t>
                      </a:r>
                      <a:r>
                        <a:rPr b="1" i="1" lang="pl-P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cz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9 289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1 777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 674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3 086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316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2 142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56840"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l-P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S Ponadgimnazjalnych w Czarnej Wodzi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 050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995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 044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 651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1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8 301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56840"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l-P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S Gospodarki Żywnościowej w Smętowi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 954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 388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 284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 496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116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3 238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8744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l-P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ŁĄCZNIE WYDATKI PONIESIONE NA SZKOLNICTWO ZAWODOW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158 193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090 482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255 494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558 082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5 266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1" lang="pl-PL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5 587 517</a:t>
                      </a: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</a:tbl>
          </a:graphicData>
        </a:graphic>
      </p:graphicFrame>
      <p:sp>
        <p:nvSpPr>
          <p:cNvPr id="125" name="Rectangle 793"/>
          <p:cNvSpPr/>
          <p:nvPr/>
        </p:nvSpPr>
        <p:spPr>
          <a:xfrm>
            <a:off x="611280" y="333360"/>
            <a:ext cx="8353440" cy="15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Nakłady organu prowadzącego poniesione na szkolnictwo zawodowe (z subwencji oświatowej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ymbol zastępczy numeru slajdu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B0C15-9178-4ADA-A114-604BFC14CC3F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Zdawalność matury 2015 r. (maj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24000" y="4149720"/>
            <a:ext cx="8291520" cy="248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395280" y="1557360"/>
          <a:ext cx="8353440" cy="2469960"/>
        </p:xfrm>
        <a:graphic>
          <a:graphicData uri="http://schemas.openxmlformats.org/drawingml/2006/table">
            <a:tbl>
              <a:tblPr/>
              <a:tblGrid>
                <a:gridCol w="2031840"/>
                <a:gridCol w="1656000"/>
                <a:gridCol w="2895480"/>
                <a:gridCol w="177012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raj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ojewództwo Pomorski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wiat Starogardzk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Zdawalność ogółe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„</a:t>
                      </a: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wa matura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„</a:t>
                      </a: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ra matura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94179-7E02-4409-A439-12A8A346652C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Dziękuję za uwag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ymbol zastępczy numeru slajd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697A0-42D6-435D-B548-F11E70ED5357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Demografia w latach 2015-2023 w Powiecie Starogardzki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1332000" y="1557360"/>
          <a:ext cx="7308720" cy="1525680"/>
        </p:xfrm>
        <a:graphic>
          <a:graphicData uri="http://schemas.openxmlformats.org/drawingml/2006/table">
            <a:tbl>
              <a:tblPr/>
              <a:tblGrid>
                <a:gridCol w="1550880"/>
                <a:gridCol w="720720"/>
                <a:gridCol w="719280"/>
                <a:gridCol w="720720"/>
                <a:gridCol w="720720"/>
                <a:gridCol w="718920"/>
                <a:gridCol w="719280"/>
                <a:gridCol w="719280"/>
                <a:gridCol w="718920"/>
              </a:tblGrid>
              <a:tr h="517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k szkoln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5/20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6/20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7/20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8/20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9/2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0/20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1/20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2/20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czba uczniów do rekrutacji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III klasy gimnazjalistów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Text Box 66"/>
          <p:cNvSpPr/>
          <p:nvPr/>
        </p:nvSpPr>
        <p:spPr>
          <a:xfrm>
            <a:off x="108000" y="3429000"/>
            <a:ext cx="90360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Około 80 – 90 % gimnazjalistów trafia do szkół prowadzonych przez Powiat Starogardzki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Około 7-10 % gimnazjalistów kontynuuje naukę w ZSZ prowadzonej przez Gminę Skarszewy oraz w Cechu Rzemiosł Różny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257"/>
          <p:cNvSpPr/>
          <p:nvPr/>
        </p:nvSpPr>
        <p:spPr>
          <a:xfrm>
            <a:off x="179280" y="4869000"/>
            <a:ext cx="842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Powiecie Starogardzkim, we wszystkich typach szkół - łącznie, będzie pobierać około 4000 uczniów, z tego 70-75 % w szkołach zawodowy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97985-82E2-4EB6-A2B9-E9B336402658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49520" y="18864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Proporcje % typów szkół w roku szkolnym 2015/20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306440" y="1197000"/>
            <a:ext cx="7283520" cy="47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LO –   36 / 106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 –      74 / 222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SZ </a:t>
            </a:r>
            <a:r>
              <a:rPr b="0" lang="pl-PL" sz="2400" spc="-1" strike="noStrike" u="sng">
                <a:solidFill>
                  <a:srgbClr val="000000"/>
                </a:solidFill>
                <a:uFillTx/>
                <a:latin typeface="Arial"/>
              </a:rPr>
              <a:t>–  28 /  850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138 / 41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LO –  25,7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  –    53,8 %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SZ – 20,5 %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Nawias klamrowy zamykający 3"/>
          <p:cNvSpPr/>
          <p:nvPr/>
        </p:nvSpPr>
        <p:spPr>
          <a:xfrm>
            <a:off x="4427640" y="2484360"/>
            <a:ext cx="288720" cy="720720"/>
          </a:xfrm>
          <a:custGeom>
            <a:avLst/>
            <a:gdLst>
              <a:gd name="textAreaLeft" fmla="*/ 0 w 288720"/>
              <a:gd name="textAreaRight" fmla="*/ 104040 w 288720"/>
              <a:gd name="textAreaTop" fmla="*/ 7200 h 720720"/>
              <a:gd name="textAreaBottom" fmla="*/ 71352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61"/>
                  <a:pt x="10800" y="722"/>
                </a:cubicBezTo>
                <a:lnTo>
                  <a:pt x="10800" y="10078"/>
                </a:lnTo>
                <a:cubicBezTo>
                  <a:pt x="10800" y="10439"/>
                  <a:pt x="16200" y="10800"/>
                  <a:pt x="21600" y="10800"/>
                </a:cubicBezTo>
                <a:cubicBezTo>
                  <a:pt x="16200" y="10800"/>
                  <a:pt x="10800" y="11161"/>
                  <a:pt x="10800" y="11522"/>
                </a:cubicBezTo>
                <a:lnTo>
                  <a:pt x="10800" y="20878"/>
                </a:lnTo>
                <a:cubicBezTo>
                  <a:pt x="10800" y="21239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Nawias klamrowy zamykający 5"/>
          <p:cNvSpPr/>
          <p:nvPr/>
        </p:nvSpPr>
        <p:spPr>
          <a:xfrm>
            <a:off x="4357800" y="4583160"/>
            <a:ext cx="358560" cy="718920"/>
          </a:xfrm>
          <a:custGeom>
            <a:avLst/>
            <a:gdLst>
              <a:gd name="textAreaLeft" fmla="*/ 0 w 358560"/>
              <a:gd name="textAreaRight" fmla="*/ 129600 w 358560"/>
              <a:gd name="textAreaTop" fmla="*/ 9000 h 718920"/>
              <a:gd name="textAreaBottom" fmla="*/ 709920 h 71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49"/>
                  <a:pt x="10800" y="898"/>
                </a:cubicBezTo>
                <a:lnTo>
                  <a:pt x="10800" y="9902"/>
                </a:lnTo>
                <a:cubicBezTo>
                  <a:pt x="10800" y="10351"/>
                  <a:pt x="16200" y="10800"/>
                  <a:pt x="21600" y="10800"/>
                </a:cubicBezTo>
                <a:cubicBezTo>
                  <a:pt x="16200" y="10800"/>
                  <a:pt x="10800" y="11249"/>
                  <a:pt x="10800" y="11698"/>
                </a:cubicBezTo>
                <a:lnTo>
                  <a:pt x="10800" y="20702"/>
                </a:lnTo>
                <a:cubicBezTo>
                  <a:pt x="10800" y="21151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ole tekstowe 7"/>
          <p:cNvSpPr/>
          <p:nvPr/>
        </p:nvSpPr>
        <p:spPr>
          <a:xfrm>
            <a:off x="4782960" y="2660760"/>
            <a:ext cx="158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102/307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ole tekstowe 8"/>
          <p:cNvSpPr/>
          <p:nvPr/>
        </p:nvSpPr>
        <p:spPr>
          <a:xfrm>
            <a:off x="4948200" y="4757760"/>
            <a:ext cx="142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74,3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58CC0-357D-4D15-9B4B-4DB86F6DB080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99640" y="188640"/>
            <a:ext cx="838836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Planowane proporcje w latach szkolnych 2016/17 – 2019/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8000" y="1125000"/>
            <a:ext cx="90360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16/1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17/1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2018/19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19/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 /1.033 (24,9%)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/1.037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/1.00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/1.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280 (59,9%)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28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28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SZ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37 (19,2%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3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6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---------------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             --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------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-----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    --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4.150 (100%)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                  4.150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      4.150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   4.1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Taki plan jest możliwy do realizacji przy konsekwentnym zachowani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astępujących proporcji rekrutacyjnych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LO – 25%, T – 55%, ZSZ – 20%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7817A-A81F-43A9-A7AC-1C1B049B7092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Łącznik prosty 4"/>
          <p:cNvSpPr/>
          <p:nvPr/>
        </p:nvSpPr>
        <p:spPr>
          <a:xfrm>
            <a:off x="2700360" y="2133720"/>
            <a:ext cx="0" cy="503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Symbol zastępczy zawartości 3" descr=""/>
          <p:cNvPicPr/>
          <p:nvPr/>
        </p:nvPicPr>
        <p:blipFill>
          <a:blip r:embed="rId1"/>
          <a:stretch/>
        </p:blipFill>
        <p:spPr>
          <a:xfrm>
            <a:off x="176040" y="476280"/>
            <a:ext cx="8967960" cy="57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A2DAF-A8E2-432F-BF09-4AF8CB34E345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1380960" y="271440"/>
            <a:ext cx="748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Planowana sieć szkół zawodowy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w perspektywie do 20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8" descr="planya"/>
          <p:cNvPicPr/>
          <p:nvPr/>
        </p:nvPicPr>
        <p:blipFill>
          <a:blip r:embed="rId1"/>
          <a:stretch/>
        </p:blipFill>
        <p:spPr>
          <a:xfrm>
            <a:off x="324000" y="1197000"/>
            <a:ext cx="8496000" cy="484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593BF-5BBE-4A7A-874A-C66DD468D90B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32000" y="274680"/>
            <a:ext cx="73548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Wybrane branż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99640" y="1413000"/>
            <a:ext cx="849636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 u="sng">
                <a:solidFill>
                  <a:srgbClr val="000000"/>
                </a:solidFill>
                <a:uFillTx/>
                <a:latin typeface="Arial"/>
              </a:rPr>
              <a:t>ICT i elektronik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(Zespół Szkół Ekonomicznych w Starogardzie Gdańskim,              Technikum w Owidzu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liczba pracodawców w branży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172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liczba miejsc pracy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ok. 4500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(najwięksi pracodawc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dostępność komunikacyj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baza socjal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 u="sng">
                <a:solidFill>
                  <a:srgbClr val="000000"/>
                </a:solidFill>
                <a:uFillTx/>
                <a:latin typeface="Arial"/>
              </a:rPr>
              <a:t>Środowisk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(Zespół Szkół Rolniczych CKP w Bolesławowie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liczba pracodawców w branży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ok. 3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liczba miejsc pracy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ok. 400 - 500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(najwięksi pracodawc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dostępność komunikacyj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baza socjal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9403C-F8E6-42C3-BBFA-483867F989BA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32000" y="274680"/>
            <a:ext cx="73548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Wybrane branż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900000" y="1197000"/>
            <a:ext cx="79200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443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98960" indent="-49896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 u="sng">
                <a:solidFill>
                  <a:srgbClr val="000000"/>
                </a:solidFill>
                <a:uFillTx/>
                <a:latin typeface="Arial"/>
              </a:rPr>
              <a:t>Transport, logistyka i motoryzacj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8960" indent="-49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(Zespół Szkół Zawodowych w Starogardzie Gdańskim,                                                Zespół Szkół Ekonomicznych w Starogardzie Gdańskim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31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liczba pracodawców w branży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127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31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liczba miejsc pracy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ok. 5000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(najwięksi pracodawc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31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dostępność komunikacyj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31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baza socjal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98960" indent="-49896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8960" indent="-49896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 u="sng">
                <a:solidFill>
                  <a:srgbClr val="000000"/>
                </a:solidFill>
                <a:uFillTx/>
                <a:latin typeface="Arial"/>
              </a:rPr>
              <a:t>Meblarstw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8960" indent="-49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(Zespół Szkół Zawodowych w Starogardzie Gdańskim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31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liczba pracodawców w branży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26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31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liczba miejsc pracy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ok. 1300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(najwięksi pracodawc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31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dostępność komunikacyj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31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baza socjal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98960" indent="-4989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406A4-3A2C-4C87-BEC9-167B53FCEE53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Group 4"/>
          <p:cNvGrpSpPr/>
          <p:nvPr/>
        </p:nvGrpSpPr>
        <p:grpSpPr>
          <a:xfrm>
            <a:off x="2124000" y="1484280"/>
            <a:ext cx="5829480" cy="3772080"/>
            <a:chOff x="2124000" y="1484280"/>
            <a:chExt cx="5829480" cy="3772080"/>
          </a:xfrm>
        </p:grpSpPr>
        <p:sp>
          <p:nvSpPr>
            <p:cNvPr id="113" name="AutoShape 5"/>
            <p:cNvSpPr/>
            <p:nvPr/>
          </p:nvSpPr>
          <p:spPr>
            <a:xfrm>
              <a:off x="2124000" y="1484280"/>
              <a:ext cx="5829480" cy="377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 Box 6"/>
            <p:cNvSpPr/>
            <p:nvPr/>
          </p:nvSpPr>
          <p:spPr>
            <a:xfrm>
              <a:off x="2695320" y="1598400"/>
              <a:ext cx="137160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Koordynator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Wydział Edukacji Starostwa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7"/>
            <p:cNvSpPr/>
            <p:nvPr/>
          </p:nvSpPr>
          <p:spPr>
            <a:xfrm>
              <a:off x="5038920" y="1598400"/>
              <a:ext cx="2914560" cy="2046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Partnerzy – prowadzący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- Powiatowy Urząd Pracy,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- SKB – Związek Pracodawców,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- Cech Rzemiosł Różnych,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- Poradnia Psychologiczno-Pedagogiczna,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- pedagodzy, psycholodzy szkół (po przeszkoleniu),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- chętni pracodawc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AutoShape 8"/>
            <p:cNvSpPr/>
            <p:nvPr/>
          </p:nvSpPr>
          <p:spPr>
            <a:xfrm>
              <a:off x="4181400" y="1941480"/>
              <a:ext cx="757080" cy="342720"/>
            </a:xfrm>
            <a:prstGeom prst="leftRightArrow">
              <a:avLst>
                <a:gd name="adj1" fmla="val 50000"/>
                <a:gd name="adj2" fmla="val 4397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 Box 9"/>
            <p:cNvSpPr/>
            <p:nvPr/>
          </p:nvSpPr>
          <p:spPr>
            <a:xfrm>
              <a:off x="2581200" y="3427560"/>
              <a:ext cx="1847160" cy="151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Beneficjenci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- uczniowie gimnazjów,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- uczniowie szkół ponadgimnazjalnych,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- rodzice uczniów,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- Rady Pedagogiczne,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AutoShape 10"/>
            <p:cNvSpPr/>
            <p:nvPr/>
          </p:nvSpPr>
          <p:spPr>
            <a:xfrm rot="5400000">
              <a:off x="2945160" y="2719800"/>
              <a:ext cx="757080" cy="342720"/>
            </a:xfrm>
            <a:prstGeom prst="leftRightArrow">
              <a:avLst>
                <a:gd name="adj1" fmla="val 50000"/>
                <a:gd name="adj2" fmla="val 4397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Rectangle 12"/>
          <p:cNvSpPr/>
          <p:nvPr/>
        </p:nvSpPr>
        <p:spPr>
          <a:xfrm>
            <a:off x="1305720" y="259200"/>
            <a:ext cx="729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Planowany schemat doradztwa edukacyjno - zawodoweg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w Powiecie Starogardzki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5T11:03:37Z</dcterms:created>
  <dc:creator>krzysztof.powierza</dc:creator>
  <dc:description/>
  <dc:language>en-US</dc:language>
  <cp:lastModifiedBy>Granoszewska-Babiańska Dorota</cp:lastModifiedBy>
  <cp:lastPrinted>2016-05-23T14:12:00Z</cp:lastPrinted>
  <dcterms:modified xsi:type="dcterms:W3CDTF">2016-05-25T08:28:18Z</dcterms:modified>
  <cp:revision>138</cp:revision>
  <dc:subject/>
  <dc:title>Slajd 1</dc:title>
</cp:coreProperties>
</file>