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CA7-5811-4E3D-A4B6-29D9F70E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426-0746-4941-BA69-DF473DA5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C5D-3807-4032-9499-2B3C8613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2AB-52F6-4943-BBC8-FEE4DE55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E892-8713-4766-B79B-9545B472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22ED-330F-4B38-B474-59F67B39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EC01-56CA-43DA-8C23-AA6715A8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1F2F-0C11-48B5-A95D-19E68650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10C8-0DB1-49A8-B945-1D32229B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01BF-7C80-4F9D-B6DE-B272AE28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D17F-C02D-4298-86FF-52C67E2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DAB-385E-4842-AC71-91439C41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E59F-5EB7-458C-9381-84953CBD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0794-07BE-4C7B-9C01-29742E85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3C9B-B7FA-4296-A125-09179D2D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600E-954B-465C-B39A-35CFFCA4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8959-C4F1-4605-AEF9-1C8BA05E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445-FE00-4D6C-B2F3-ACC7D8FD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AA8-505D-4E77-93E1-69ECCA4E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054-B0CD-4F16-8E39-44F226E5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5C2-0C4B-4DAA-8564-D9D03BD7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533-1C3A-46A4-93E8-C26D2AE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228-95C8-4815-9B6B-FB116C2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263-683A-47E6-992C-376DE07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158-FEB4-4E02-B1C4-52782DC62DE4}" type="datetime">
              <a:rPr b="0" lang="pl-PL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AF74-D4A7-4CB4-9525-4E25AD1151E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DE8A-A343-47E2-8044-B5F3EC98DE7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DAD1-F389-4B1A-8FE4-599D48920FD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206028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ształtowanie sieci szkolnictwa ponadgimnazjalnego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Powiecie Starogardzkim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erspektywa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562B-FA46-4EF1-B476-1E0ACF062A3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47280" y="1125000"/>
            <a:ext cx="741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lanowane zadania doradztwa edukacyjno-zawodoweg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moc w planowaniu kształcenia i kariery zawod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dostępnianie informacji edukacyjnych i zawodow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wadzenie zajęć związanych z wyborem kierunków kształcenia i zaw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wiązanie współpracy szkół ze specjalistami z doradztwa zawodow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dywidualne konsultacje dla uczniów, nauczyci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arsztaty i spotkania z rodzic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dział w konkursach, olimpiad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a uczniów i ich rodziców z pracodawc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ganizowanie targów pracy z udziałem uczniów gimnazj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nstytucje współpracujące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arostwo Powiatowe w Starogardzie Gdańskim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ładze gmi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arogardzki Klub Biznes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wiązek Pracodawców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ch Rzemiosł Różnych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wiatowy Urząd Prac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radnia Psychologiczno – Pedagogiczn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yrekcje szkół wszystkich typów kształc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1"/>
          <p:cNvSpPr/>
          <p:nvPr/>
        </p:nvSpPr>
        <p:spPr>
          <a:xfrm>
            <a:off x="2050920" y="40464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dania doradztwa edukacyjno - zawod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C5A7-582C-4280-810D-6788B144715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133720"/>
          <a:ext cx="9036000" cy="2652480"/>
        </p:xfrm>
        <a:graphic>
          <a:graphicData uri="http://schemas.openxmlformats.org/drawingml/2006/table">
            <a:tbl>
              <a:tblPr/>
              <a:tblGrid>
                <a:gridCol w="3059280"/>
                <a:gridCol w="863280"/>
                <a:gridCol w="936720"/>
                <a:gridCol w="936720"/>
                <a:gridCol w="1008000"/>
                <a:gridCol w="1008000"/>
                <a:gridCol w="1224000"/>
              </a:tblGrid>
              <a:tr h="2743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zwa jednostk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Ekonomicz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 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 025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 053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25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33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 87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Zawodow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745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43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28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 69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88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 045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ikum w Owidz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40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 799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73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 919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82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80 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Rolniczych CKP w Bolesławow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 53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 06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4 423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 98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23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81 24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Ponadgimnazjalnych w Sk</a:t>
                      </a: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z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 289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 77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67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 08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31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 14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Ponadgimnazjalnych w Czarnej Wodz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5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95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4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65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 30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Gospodarki Żywnościowej w Smętow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95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38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28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49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1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 23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7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ŁĄCZNIE WYDATKI PONIESIONE NA SZKOLNICTWO ZAWODO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58 19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90 48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55 49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58 08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 26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587 517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793"/>
          <p:cNvSpPr/>
          <p:nvPr/>
        </p:nvSpPr>
        <p:spPr>
          <a:xfrm>
            <a:off x="611280" y="333360"/>
            <a:ext cx="83534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kłady organu prowadzącego poniesione na szkolnictwo zawodowe (z subwencji oświatow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C382-2944-4D76-A421-0322B28278F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dawalność matury 2015 r. (m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4149720"/>
            <a:ext cx="82915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557360"/>
          <a:ext cx="8353440" cy="2469960"/>
        </p:xfrm>
        <a:graphic>
          <a:graphicData uri="http://schemas.openxmlformats.org/drawingml/2006/table">
            <a:tbl>
              <a:tblPr/>
              <a:tblGrid>
                <a:gridCol w="2031840"/>
                <a:gridCol w="1656000"/>
                <a:gridCol w="2895480"/>
                <a:gridCol w="1770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jewództwo Pomorsk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iat Starogardz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dawalność ogół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wa matura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a matura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986-69B7-4EB9-B969-96E9147B94F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E833-15DA-41F1-BA55-EF21E98F5BA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mografia w latach 2015-2023 w Powiecie Starogar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32000" y="1557360"/>
          <a:ext cx="7308720" cy="1525680"/>
        </p:xfrm>
        <a:graphic>
          <a:graphicData uri="http://schemas.openxmlformats.org/drawingml/2006/table">
            <a:tbl>
              <a:tblPr/>
              <a:tblGrid>
                <a:gridCol w="1550880"/>
                <a:gridCol w="720720"/>
                <a:gridCol w="719280"/>
                <a:gridCol w="720720"/>
                <a:gridCol w="720720"/>
                <a:gridCol w="718920"/>
                <a:gridCol w="719280"/>
                <a:gridCol w="719280"/>
                <a:gridCol w="7189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szko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/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/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/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 do rekrutacj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II klasy gimnazjalistó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66"/>
          <p:cNvSpPr/>
          <p:nvPr/>
        </p:nvSpPr>
        <p:spPr>
          <a:xfrm>
            <a:off x="108000" y="3429000"/>
            <a:ext cx="90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80 – 90 % gimnazjalistów trafia do szkół prowadzonych przez Powiat Starogardzk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7-10 % gimnazjalistów kontynuuje naukę w ZSZ prowadzonej przez Gminę Skarszewy oraz w Cechu Rzemiosł Róż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7"/>
          <p:cNvSpPr/>
          <p:nvPr/>
        </p:nvSpPr>
        <p:spPr>
          <a:xfrm>
            <a:off x="179280" y="4869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wiecie Starogardzkim, we wszystkich typach szkół - łącznie, będzie pobierać około 4000 uczniów, z tego 70-75 % w szkołach zawod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2DE-F9C8-47C5-BFFC-E3E1332DFA6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4952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porcje % typów szkół w roku szkolnym 2015/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06440" y="1197000"/>
            <a:ext cx="72835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 –   36 / 10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 –      74 / 222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SZ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–  28 /  85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38 / 41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 –  25,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  –    53,8 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SZ – 20,5 %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wias klamrowy zamykający 3"/>
          <p:cNvSpPr/>
          <p:nvPr/>
        </p:nvSpPr>
        <p:spPr>
          <a:xfrm>
            <a:off x="4427640" y="248436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16200" y="10800"/>
                  <a:pt x="21600" y="10800"/>
                </a:cubicBezTo>
                <a:cubicBezTo>
                  <a:pt x="162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Nawias klamrowy zamykający 5"/>
          <p:cNvSpPr/>
          <p:nvPr/>
        </p:nvSpPr>
        <p:spPr>
          <a:xfrm>
            <a:off x="4357800" y="4583160"/>
            <a:ext cx="358560" cy="718920"/>
          </a:xfrm>
          <a:custGeom>
            <a:avLst/>
            <a:gdLst>
              <a:gd name="textAreaLeft" fmla="*/ 0 w 358560"/>
              <a:gd name="textAreaRight" fmla="*/ 129600 w 358560"/>
              <a:gd name="textAreaTop" fmla="*/ 9000 h 718920"/>
              <a:gd name="textAreaBottom" fmla="*/ 70992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9"/>
                  <a:pt x="10800" y="898"/>
                </a:cubicBezTo>
                <a:lnTo>
                  <a:pt x="10800" y="9902"/>
                </a:lnTo>
                <a:cubicBezTo>
                  <a:pt x="10800" y="10351"/>
                  <a:pt x="16200" y="10800"/>
                  <a:pt x="21600" y="10800"/>
                </a:cubicBezTo>
                <a:cubicBezTo>
                  <a:pt x="16200" y="10800"/>
                  <a:pt x="10800" y="11249"/>
                  <a:pt x="10800" y="11698"/>
                </a:cubicBezTo>
                <a:lnTo>
                  <a:pt x="10800" y="20702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7"/>
          <p:cNvSpPr/>
          <p:nvPr/>
        </p:nvSpPr>
        <p:spPr>
          <a:xfrm>
            <a:off x="4782960" y="2660760"/>
            <a:ext cx="15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2/30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ole tekstowe 8"/>
          <p:cNvSpPr/>
          <p:nvPr/>
        </p:nvSpPr>
        <p:spPr>
          <a:xfrm>
            <a:off x="4948200" y="47577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74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B8D-D4BA-4FA8-96B3-B508F980D4C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838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lanowane proporcje w latach szkolnych 2016/17 – 2019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9036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6/1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7/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18/19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9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/1.033 (24,9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/1.037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/1.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/1.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80 (59,9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SZ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7 (19,2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.150 (100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4.1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4.1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4.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ki plan jest możliwy do realizacji przy konsekwentnym zachowa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stępujących proporcji rekrutacyjnyc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– 25%, T – 55%, ZSZ – 2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6D1F-F08C-4576-A806-6270D8FF810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Łącznik prosty 4"/>
          <p:cNvSpPr/>
          <p:nvPr/>
        </p:nvSpPr>
        <p:spPr>
          <a:xfrm>
            <a:off x="2700360" y="213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ymbol zastępczy zawartości 3" descr=""/>
          <p:cNvPicPr/>
          <p:nvPr/>
        </p:nvPicPr>
        <p:blipFill>
          <a:blip r:embed="rId1"/>
          <a:stretch/>
        </p:blipFill>
        <p:spPr>
          <a:xfrm>
            <a:off x="176040" y="476280"/>
            <a:ext cx="89679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3B67-FD11-47DE-95E6-B33AEE60383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380960" y="2714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lanowana sieć szkół zawod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erspektywie do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planya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6CC2-22BE-4BAE-82F3-5CF50ED5266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brane branż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99640" y="1413000"/>
            <a:ext cx="849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ICT i elektroni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spół Szkół Ekonomicznych w Starogardzie Gdańskim,              Technikum w Owidz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pracodawców w branż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17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miejsc pra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4500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najwięksi pracodaw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ostępność komunika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baza socj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Środowi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spół Szkół Rolniczych CKP w Bolesławowi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pracodawców w branż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miejsc pra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400 - 500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najwięksi pracodaw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ostępność komunika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baza socj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929F-6480-4D3C-82C0-78F1ECB7C05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brane branż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0000" y="1197000"/>
            <a:ext cx="7920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Transport, logistyka i motoryzac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spół Szkół Zawodowych w Starogardzie Gdańskim,                                                Zespół Szkół Ekonomicznych w Starogardzie Gdański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pracodawców w branż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miejsc pra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5000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najwięksi pracodaw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ostępność komunika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baza socj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Meblars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spół Szkół Zawodowych w Starogardzie Gdański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pracodawców w branż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miejsc pra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1300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najwięksi pracodaw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ostępność komunika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baza socj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6B1-E0BA-408E-827D-287CD03C4E9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124000" y="1484280"/>
            <a:ext cx="5829480" cy="3772080"/>
            <a:chOff x="2124000" y="1484280"/>
            <a:chExt cx="5829480" cy="3772080"/>
          </a:xfrm>
        </p:grpSpPr>
        <p:sp>
          <p:nvSpPr>
            <p:cNvPr id="113" name="AutoShape 5"/>
            <p:cNvSpPr/>
            <p:nvPr/>
          </p:nvSpPr>
          <p:spPr>
            <a:xfrm>
              <a:off x="2124000" y="1484280"/>
              <a:ext cx="5829480" cy="37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695320" y="1598400"/>
              <a:ext cx="137160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Koordynato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Wydział Edukacji Starostw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5038920" y="1598400"/>
              <a:ext cx="291456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artnerzy – prowadzący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Powiatowy Urząd Pracy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SKB – Związek Pracodawców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Cech Rzemiosł Różnych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Poradnia Psychologiczno-Pedagogiczna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pedagodzy, psycholodzy szkół (po przeszkoleniu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chętni pracodaw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"/>
            <p:cNvSpPr/>
            <p:nvPr/>
          </p:nvSpPr>
          <p:spPr>
            <a:xfrm>
              <a:off x="4181400" y="1941480"/>
              <a:ext cx="757080" cy="342720"/>
            </a:xfrm>
            <a:prstGeom prst="leftRightArrow">
              <a:avLst>
                <a:gd name="adj1" fmla="val 50000"/>
                <a:gd name="adj2" fmla="val 43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2581200" y="3427560"/>
              <a:ext cx="1847160" cy="15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eneficjenc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uczniowie gimnazjów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uczniowie szkół ponadgimnazjalnych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rodzice uczniów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Rady Pedagogiczn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 rot="5400000">
              <a:off x="2945160" y="2719800"/>
              <a:ext cx="757080" cy="342720"/>
            </a:xfrm>
            <a:prstGeom prst="leftRightArrow">
              <a:avLst>
                <a:gd name="adj1" fmla="val 50000"/>
                <a:gd name="adj2" fmla="val 43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2"/>
          <p:cNvSpPr/>
          <p:nvPr/>
        </p:nvSpPr>
        <p:spPr>
          <a:xfrm>
            <a:off x="1305720" y="259200"/>
            <a:ext cx="72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lanowany schemat doradztwa edukacyjno - zawodow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owiecie Starogar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1:03:37Z</dcterms:created>
  <dc:creator>krzysztof.powierza</dc:creator>
  <dc:description/>
  <dc:language>en-US</dc:language>
  <cp:lastModifiedBy>Granoszewska-Babiańska Dorota</cp:lastModifiedBy>
  <cp:lastPrinted>2016-05-23T14:12:00Z</cp:lastPrinted>
  <dcterms:modified xsi:type="dcterms:W3CDTF">2016-05-25T08:28:18Z</dcterms:modified>
  <cp:revision>138</cp:revision>
  <dc:subject/>
  <dc:title>Slajd 1</dc:title>
</cp:coreProperties>
</file>