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193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A6B-B702-44AF-9EE9-CF136CCE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7A1-C432-4261-B31F-33666788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379-46FA-42C0-980D-D75694C2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513-8F86-45C1-8CC0-BA4C7298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0C3-C158-4C40-8B3E-02017E71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BF9-8D00-4EB4-8C84-24C316C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5538-272E-4E38-AAE3-A2BF3C0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6EB-4E55-483D-B40B-AC5A4E3A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A65-B143-4B96-9291-E5BFB4B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BE74-3C26-48B5-9EC5-77320906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1C3-07F3-46E6-B2E5-4621AF0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ADA-F853-443A-A6A0-379DA77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7CD-CFD8-480E-AEFD-7A6A8F6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EBB9-C7BE-4C73-BFC8-749338B5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FAB6-F00A-426D-8185-23D5129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B005-EB8E-473E-86FC-F1E80FE4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2908-3E14-419E-823C-DF8D082E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5076-EB0F-4FAD-8614-98630B3C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B607-9EE9-4AC4-9A19-C27A506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6541-1A49-47DE-9A2C-466202AB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A3FD-368D-4C62-99B0-46AC42C6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10AC-2C61-4275-A0A0-A92D407A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B77-27C5-4EB4-935A-EA802E1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5600-E153-4778-856D-B20E5D13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2FA8-3B90-44FC-9369-C809269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3879-FD81-4C0E-BC7C-590BDF8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D0A4-885F-4008-96CB-7305236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E4D5-8167-4160-8049-AFFF5216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B0F4-594B-4ACC-98C8-AA29CF03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3382-8DCE-43DD-A65B-56CA6BE1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6D49-A6F6-4634-B745-B98EE01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C084-710F-465D-B1DE-527DBA99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2C58-0C42-474B-855C-C459991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5C6-1F81-4E4F-8CA8-D54D8B2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205F-2B77-4892-9C7B-0640C51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362C-3A73-4DC4-B520-794EB28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D924-FBDC-494F-8056-BEF1003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C6F4-23BF-41D8-BD8B-028E541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640C-1C22-4A0F-BB9B-2BB59DA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91FD-6C48-40A2-A4C8-09A9891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E4A0-56A9-40D8-A99A-1E78AEA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47CF-2D54-46DA-A6AB-019F3CF6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5663-CB65-4DC1-B92B-E07C8ECC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3B38E-D83D-4CFD-B329-5D43A556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B7D-F0D4-45A1-9257-43010EE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4238-6A73-43E8-B6F1-551CFE3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E45BA-4ADB-4F3F-98E2-F0050C8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AC2D-4AFA-47F4-B62B-087EF5D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913B-7902-4A61-8D84-89C11A81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2CC5-D54A-4980-A78C-F777B30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4409-5B78-4968-865C-873F5DD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7697-F0FD-4844-80AF-09B691C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4DAE-8740-4066-BF0D-F6B7C5B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6C5A-58C2-484A-A5B0-56E2A59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B0C3-9B3D-43B5-A045-CBC6E490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C44-6BD5-4B5C-BD34-91239AA6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C93E-3DC1-447C-A5CF-B1602924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101-5017-4DDC-B569-5ED69C7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750-3EBD-4C6F-A997-48603E4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A8F-2C17-4531-9EF1-86B3CDC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C09A0-6BAE-43C5-8EB6-FD417432656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1C2AB-520F-422D-A880-34583B5F8A6A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D5D81-96FD-467C-AA40-BAB4813653B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D02BE-42F8-4C39-B94F-80859077D34D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06C53-C354-4D89-8194-6510AA50D11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nws.pl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77960" y="2814480"/>
            <a:ext cx="9102960" cy="26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System Wspierania Nauczycieli</a:t>
            </a: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w Powiecie Bytowskim</a:t>
            </a:r>
            <a:br>
              <a:rPr sz="5400"/>
            </a:b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„Konsorcjum samorządowe” </a:t>
            </a: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na rzecz edukacji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5" name="Obraz 3" descr=""/>
          <p:cNvPicPr/>
          <p:nvPr/>
        </p:nvPicPr>
        <p:blipFill>
          <a:blip r:embed="rId1"/>
          <a:stretch/>
        </p:blipFill>
        <p:spPr>
          <a:xfrm>
            <a:off x="444600" y="5335560"/>
            <a:ext cx="1009440" cy="1104840"/>
          </a:xfrm>
          <a:prstGeom prst="rect">
            <a:avLst/>
          </a:prstGeom>
          <a:ln w="0">
            <a:noFill/>
          </a:ln>
        </p:spPr>
      </p:pic>
      <p:sp>
        <p:nvSpPr>
          <p:cNvPr id="246" name="pole tekstowe 5"/>
          <p:cNvSpPr/>
          <p:nvPr/>
        </p:nvSpPr>
        <p:spPr>
          <a:xfrm>
            <a:off x="5511960" y="60958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ariusz Glazik – Naczelnik Wydziału Edukacji, Kultury i Spor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Starostwa Powiatowego w Byt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380880"/>
            <a:ext cx="100188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Efekt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84280" y="1930320"/>
            <a:ext cx="10018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zjednoczenie sił, współpraca i podjęcie wspólnych działań na rzecz rozwoju edukacji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ścisła współpraca nauczycieli pracujących na różnych szczeblach edukacyjnych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wzajemne zrozumienie i zwiększenie świadomości dotyczącej problemów edukacyjnych na różnych szczeblach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utworzenie strony internetowej jako platformy edukacyjnej wymiany myśli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85800" y="-165240"/>
            <a:ext cx="100188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000" spc="-1" strike="noStrike" u="sng">
                <a:solidFill>
                  <a:srgbClr val="3085ed"/>
                </a:solidFill>
                <a:uFillTx/>
                <a:latin typeface="Corbel"/>
                <a:hlinkClick r:id="rId1"/>
              </a:rPr>
              <a:t>www.knws.pl</a:t>
            </a:r>
            <a:r>
              <a:rPr b="0" lang="pl-PL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Symbol zastępczy zawartości 3" descr=""/>
          <p:cNvPicPr/>
          <p:nvPr/>
        </p:nvPicPr>
        <p:blipFill>
          <a:blip r:embed="rId2"/>
          <a:stretch/>
        </p:blipFill>
        <p:spPr>
          <a:xfrm>
            <a:off x="2346480" y="774720"/>
            <a:ext cx="899460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orbel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CEL GŁÓWN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84280" y="2336760"/>
            <a:ext cx="10018800" cy="34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Budowa powiatowego systemu</a:t>
            </a: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oskonalenia nauczycieli</a:t>
            </a:r>
            <a:r>
              <a:rPr b="0" i="1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spójnego z rozwojem szkół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kreowanie wspólnej i spójnej polityki edukacyjnej organów prowadzący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 wszystkich etapach edukacyjny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26676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Założenia projektu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2019240"/>
            <a:ext cx="1001880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Wspólna partycypacja organizacyjna i finansowa wszystkich jst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z terenu powiatu bytowskiego w budowę systemu wspierania nauczycieli na wszystkich etapach edukacyjnych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Powołanie do życia niezinstytucjonalizowanej formy ośrodka kształcenia i wspierania nauczycieli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Zlecenie organizacji pozarządowej realizacji zadania publicznego dotyczącego dokształcania i doskonalenia zawodowego nauczycieli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Czas trwania projektu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Corbel"/>
              </a:rPr>
              <a:t>lata 2015-2017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z możliwością przedłużenia na kolejne la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15192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Geneza projektu i harmonogram prac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50960"/>
            <a:ext cx="10018800" cy="52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ebata oświatowa zorganizowana przez Bytowskie Stowarzyszenie Oświatowe – idea dialogu edukacyjnego na wszystkich etapach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pracowanie ramowych założeń projektu, rozmowy z przedstawicielami js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yłonienie lidera i podpisanie porozumień dot. finansowania zadani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rganizacja otwartego konkursu ofert w trybie ustawy o organizacjach pożytku publicznego i o wolontariacie i wyłonienie podmiotu realizującego zadanie zlecon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ealizacja zadania przez Bytowskie Stowarzyszenie Oświatow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29160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Utworzenie dwóch sieci wsparcia w ramach przedsięwzięcia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orbel"/>
              </a:rPr>
              <a:t>Sieć instytucjonalna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– jednostki samorządu terytorialneg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orbel"/>
              </a:rPr>
              <a:t>Sieć merytoryczna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– organizacje pozarządowe, dyrektorzy placówek oświatowych, nauczycie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484280" y="1168200"/>
            <a:ext cx="10018800" cy="46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orbel"/>
              </a:rPr>
              <a:t>Sieć instytucjonaln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jej skład wchodzą wszystkie jst z terenu powiatu bytowskiego (10 gmin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powiat). Po raz pierwszy w historii Powiatu Bytowskiego udało się skupić wszystkie samorządy w jednym projekcie. Główne zadanie: pomoc organizacyjna i finansowanie „sieciowania nauczycieli”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Lider sieci: Gmina Bytów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84280" y="762120"/>
            <a:ext cx="10018800" cy="54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orbel"/>
              </a:rPr>
              <a:t>Sieć merytoryczn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formalnie zarządzana przez Bytowskie Stowarzyszenie Oświatowe, któremu jst zleciło realizację zadania w latach 2015-2017. W ramach tej sieci powstały „podsieci”: nauczanie wczesnoszkolne, edukacje: artystyczna, zawodowa, przyrodnicza, matematyczna, języków obcych i humanistyczna. Praca w danej „podsieci” polega na dzieleniu się doświadczeniem zawodowym oraz służy wypracowaniu rozwiązań, które zostaną wdrażane przez jej uczestni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amach każdej sieci. Pracami każdej podsieci kieruje koordynator, a nad całością pieczę sprawuje Powiatowy Organizator Doskonalenia Nauczycieli powołany przez Zarząd Bytowskiego Stowarzyszenia Oświatowego. Udzia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sieciach jest dla nauczycieli i dyrektorów szkół nieodpłatny. Każda z sieci współpracy i samokształcenia wyznacza własne cele i program działa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obrębie jasno określonego tematu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8720" y="254160"/>
            <a:ext cx="10018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Budżet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776240" y="1981080"/>
            <a:ext cx="1001880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Roczny budżet projektu – 28.000 z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Środki finansowe na realizację zadania pochodzą od jednostek samorządu terytorialnego wg następującego klucz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gminy wiejskie – po 2.000 zł każda j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(8 gmin x 2.000 zł = 16.000 z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gminy miejskie i Powiat Bytowski – po 4.000 zł każda j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(2 gminy i powiat x 4.000 zł = 12.000 zł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5:43:43Z</dcterms:created>
  <dc:creator>Powiat Bytowski</dc:creator>
  <dc:description/>
  <dc:language>en-US</dc:language>
  <cp:lastModifiedBy>Lenovo G510</cp:lastModifiedBy>
  <cp:lastPrinted>2016-05-23T08:21:38Z</cp:lastPrinted>
  <dcterms:modified xsi:type="dcterms:W3CDTF">2016-05-23T12:43:51Z</dcterms:modified>
  <cp:revision>20</cp:revision>
  <dc:subject/>
  <dc:title>System Wspierania Nauczycieli w Powiecie Bytowskim.  „Konsorcjum samorządowe”  na rzecz edukacji</dc:title>
</cp:coreProperties>
</file>