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12193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E1A1-9F49-4792-BB74-0F6E0BA9C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ABE2-DFA7-46ED-A594-E51DE326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5996-AFEE-4B79-8668-761A9A20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2992-F046-451D-9393-E1BD64028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055B-B350-46BE-A3BB-1D052888C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9CC5-457F-4FE6-9907-0F960262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EE36-CF1D-469E-820D-3CCB9CFD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435E-61E7-4B3E-A2FD-1D6A474C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5F21-D553-477E-899F-CF7F8E02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51B9-5819-4700-95BE-53DF2BBF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6BB1-42B9-4290-8E35-8AC0B874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1DBD-4B76-408C-8CEB-4822F8F6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6190-75F8-4FF0-A9E7-89451968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46AB-CB0F-45CE-8F27-0D678DC5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8458-0999-45B6-B596-CFA131E0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439B-CA2A-44F3-B2CF-7D19E4F4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63DD-983A-4CF1-A126-F5754768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01837-594D-4BBE-B759-0AD2FC53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F677A-2FA9-48DA-A7B5-23B64B14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B755A-A2CD-4746-8812-21D22890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4DE14-F198-4AFA-BBD0-44E336B8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38C1A-CB57-4321-A699-35126B86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B688-1C78-4ECC-AC70-993BB83E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81753-16A6-4262-B0F9-25FF2C3E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9FB71-C7D2-40B2-A3CC-6AE97461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599DC-A726-4F21-B463-89E2DEDA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8B70A-D6F3-4E34-AA50-C1D9D172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AFD8A-704D-4D53-95C2-E1B98F76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A838F-03AD-45AB-9800-E57072D3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659E1-D3D5-4D05-9BC3-EE3CFFFF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F9FC2-4D0B-4B6A-B363-8FE8FE59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50300-4C4A-44AB-AD99-21B82D15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C7935-ADB7-416C-A7B9-073635D6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C36E-F579-4366-8107-95FBE15E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F3769-49C4-4470-81A4-E2B0E0D4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F24C9-4CFC-47C7-A9E3-AC4558A6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0DBB2-8ADC-495D-A057-B52B7841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F5281-D80B-4BC3-AC70-CCB6B1C9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D701C-847B-4BFD-9F8C-4EF4454D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55F21-134E-4B95-8276-80B904B7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C7C6D-CA7B-451D-8CDB-B16AD407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DDA08-4874-4E38-9FBA-5B8F2091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52DF0-ABB3-47C5-9EAC-52C3B89A0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2FDB5-95C3-4FA2-827B-3C9B8CDB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2F74-EEA8-4ABF-B63C-603D955B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FE2E0-4BEB-4A15-B469-5F6C5136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DF73D-027C-42D5-AA14-C7771982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EC18C-BFA2-4103-9EDD-E0CEE7B7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5F8C7-879D-406D-9C2B-EAA8E02C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D0B6C-6B28-441D-A760-42EC92B3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A1247-4EBF-47C7-8245-939FD3B2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F8752-255B-44FD-A5E0-AB051E28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3F391-18B6-4691-9A23-7A6C07FE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8B6D6-B78A-4FB4-B8D7-080C3FCB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85D01-33DB-49DB-916F-35CFA9D82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A3FF-7A01-4170-A65D-A47C78C0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55D7D-E8B3-4BFC-AF95-7EF247A3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9E32-ECF3-4D6A-9572-A904FCDE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EDF9-1B87-4B83-B1B6-519BA9A1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0CF2-52DD-46F9-8F9A-5E1BF37D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623AC6-0930-4D72-9064-DA96FEF8E04D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8"/>
          <p:cNvGrpSpPr/>
          <p:nvPr/>
        </p:nvGrpSpPr>
        <p:grpSpPr>
          <a:xfrm>
            <a:off x="546120" y="-4680"/>
            <a:ext cx="5014800" cy="6862680"/>
            <a:chOff x="546120" y="-4680"/>
            <a:chExt cx="5014800" cy="6862680"/>
          </a:xfrm>
        </p:grpSpPr>
        <p:sp>
          <p:nvSpPr>
            <p:cNvPr id="49" name="Freeform 6"/>
            <p:cNvSpPr/>
            <p:nvPr/>
          </p:nvSpPr>
          <p:spPr>
            <a:xfrm>
              <a:off x="984240" y="-4680"/>
              <a:ext cx="1063440" cy="2782800"/>
            </a:xfrm>
            <a:custGeom>
              <a:avLst/>
              <a:gdLst>
                <a:gd name="textAreaLeft" fmla="*/ 0 w 1063440"/>
                <a:gd name="textAreaRight" fmla="*/ 1063800 w 1063440"/>
                <a:gd name="textAreaTop" fmla="*/ 0 h 2782800"/>
                <a:gd name="textAreaBottom" fmla="*/ 2783160 h 2782800"/>
              </a:gdLst>
              <a:ahLst/>
              <a:rect l="textAreaLeft" t="textAreaTop" r="textAreaRight" b="textAreaBottom"/>
              <a:pathLst>
                <a:path w="670" h="1753">
                  <a:moveTo>
                    <a:pt x="0" y="1696"/>
                  </a:moveTo>
                  <a:lnTo>
                    <a:pt x="225" y="1753"/>
                  </a:lnTo>
                  <a:lnTo>
                    <a:pt x="670" y="0"/>
                  </a:lnTo>
                  <a:lnTo>
                    <a:pt x="430" y="0"/>
                  </a:lnTo>
                  <a:lnTo>
                    <a:pt x="0" y="1696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546120" y="-4680"/>
              <a:ext cx="1035000" cy="2673360"/>
            </a:xfrm>
            <a:custGeom>
              <a:avLst/>
              <a:gdLst/>
              <a:ahLst/>
              <a:rect l="l" t="t" r="r" b="b"/>
              <a:pathLst>
                <a:path w="652" h="1684">
                  <a:moveTo>
                    <a:pt x="225" y="1684"/>
                  </a:moveTo>
                  <a:lnTo>
                    <a:pt x="652" y="0"/>
                  </a:lnTo>
                  <a:lnTo>
                    <a:pt x="411" y="0"/>
                  </a:lnTo>
                  <a:lnTo>
                    <a:pt x="0" y="1627"/>
                  </a:lnTo>
                  <a:lnTo>
                    <a:pt x="219" y="1681"/>
                  </a:lnTo>
                  <a:lnTo>
                    <a:pt x="225" y="1684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546120" y="2583000"/>
              <a:ext cx="2693880" cy="4275000"/>
            </a:xfrm>
            <a:custGeom>
              <a:avLst/>
              <a:gdLst/>
              <a:ahLst/>
              <a:rect l="l" t="t" r="r" b="b"/>
              <a:pathLst>
                <a:path w="1697" h="2693">
                  <a:moveTo>
                    <a:pt x="0" y="0"/>
                  </a:moveTo>
                  <a:lnTo>
                    <a:pt x="1622" y="2693"/>
                  </a:lnTo>
                  <a:lnTo>
                    <a:pt x="1697" y="26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988920" y="2692440"/>
              <a:ext cx="3332160" cy="4165560"/>
            </a:xfrm>
            <a:custGeom>
              <a:avLst/>
              <a:gdLst/>
              <a:ahLst/>
              <a:rect l="l" t="t" r="r" b="b"/>
              <a:pathLst>
                <a:path w="2099" h="2624">
                  <a:moveTo>
                    <a:pt x="2099" y="2624"/>
                  </a:moveTo>
                  <a:lnTo>
                    <a:pt x="0" y="0"/>
                  </a:lnTo>
                  <a:lnTo>
                    <a:pt x="2021" y="2624"/>
                  </a:lnTo>
                  <a:lnTo>
                    <a:pt x="2099" y="2624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984240" y="2687760"/>
              <a:ext cx="4576680" cy="4170240"/>
            </a:xfrm>
            <a:custGeom>
              <a:avLst/>
              <a:gdLst/>
              <a:ahLst/>
              <a:rect l="l" t="t" r="r" b="b"/>
              <a:pathLst>
                <a:path w="2883" h="2627">
                  <a:moveTo>
                    <a:pt x="0" y="0"/>
                  </a:moveTo>
                  <a:lnTo>
                    <a:pt x="3" y="3"/>
                  </a:lnTo>
                  <a:lnTo>
                    <a:pt x="2102" y="2627"/>
                  </a:lnTo>
                  <a:lnTo>
                    <a:pt x="2883" y="2627"/>
                  </a:lnTo>
                  <a:lnTo>
                    <a:pt x="225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546120" y="2577960"/>
              <a:ext cx="3584520" cy="4280040"/>
            </a:xfrm>
            <a:custGeom>
              <a:avLst/>
              <a:gdLst/>
              <a:ahLst/>
              <a:rect l="l" t="t" r="r" b="b"/>
              <a:pathLst>
                <a:path w="2258" h="2696">
                  <a:moveTo>
                    <a:pt x="2258" y="2696"/>
                  </a:moveTo>
                  <a:lnTo>
                    <a:pt x="264" y="111"/>
                  </a:lnTo>
                  <a:lnTo>
                    <a:pt x="228" y="60"/>
                  </a:lnTo>
                  <a:lnTo>
                    <a:pt x="225" y="57"/>
                  </a:lnTo>
                  <a:lnTo>
                    <a:pt x="0" y="0"/>
                  </a:lnTo>
                  <a:lnTo>
                    <a:pt x="0" y="3"/>
                  </a:lnTo>
                  <a:lnTo>
                    <a:pt x="1697" y="2696"/>
                  </a:lnTo>
                  <a:lnTo>
                    <a:pt x="2258" y="269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332320" y="5882760"/>
            <a:ext cx="43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28234A-00E5-4A7E-8FD3-246164189932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97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10952280" y="586692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5017EE-372B-4C4F-8698-22271AC6B31F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4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6EAC0B-B24E-4D48-ABFB-58835ACA20F6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9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DD2AAE-4D7D-4C80-93C2-872E25E0E737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nws.pl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77960" y="2814480"/>
            <a:ext cx="9102960" cy="261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5400" spc="-1" strike="noStrike">
                <a:solidFill>
                  <a:srgbClr val="000000"/>
                </a:solidFill>
                <a:latin typeface="Corbel"/>
              </a:rPr>
              <a:t>System Wspierania Nauczycieli</a:t>
            </a:r>
            <a:br>
              <a:rPr sz="5400"/>
            </a:br>
            <a:r>
              <a:rPr b="1" lang="pl-PL" sz="5400" spc="-1" strike="noStrike">
                <a:solidFill>
                  <a:srgbClr val="000000"/>
                </a:solidFill>
                <a:latin typeface="Corbel"/>
              </a:rPr>
              <a:t>w Powiecie Bytowskim</a:t>
            </a:r>
            <a:br>
              <a:rPr sz="5400"/>
            </a:br>
            <a:br>
              <a:rPr sz="5400"/>
            </a:br>
            <a:r>
              <a:rPr b="1" lang="pl-PL" sz="5400" spc="-1" strike="noStrike">
                <a:solidFill>
                  <a:srgbClr val="000000"/>
                </a:solidFill>
                <a:latin typeface="Corbel"/>
              </a:rPr>
              <a:t>„Konsorcjum samorządowe” </a:t>
            </a:r>
            <a:br>
              <a:rPr sz="5400"/>
            </a:br>
            <a:r>
              <a:rPr b="1" lang="pl-PL" sz="5400" spc="-1" strike="noStrike">
                <a:solidFill>
                  <a:srgbClr val="000000"/>
                </a:solidFill>
                <a:latin typeface="Corbel"/>
              </a:rPr>
              <a:t>na rzecz edukacji 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45" name="Obraz 3" descr=""/>
          <p:cNvPicPr/>
          <p:nvPr/>
        </p:nvPicPr>
        <p:blipFill>
          <a:blip r:embed="rId1"/>
          <a:stretch/>
        </p:blipFill>
        <p:spPr>
          <a:xfrm>
            <a:off x="444600" y="5335560"/>
            <a:ext cx="1009440" cy="1104840"/>
          </a:xfrm>
          <a:prstGeom prst="rect">
            <a:avLst/>
          </a:prstGeom>
          <a:ln w="0">
            <a:noFill/>
          </a:ln>
        </p:spPr>
      </p:pic>
      <p:sp>
        <p:nvSpPr>
          <p:cNvPr id="246" name="pole tekstowe 5"/>
          <p:cNvSpPr/>
          <p:nvPr/>
        </p:nvSpPr>
        <p:spPr>
          <a:xfrm>
            <a:off x="5511960" y="6095880"/>
            <a:ext cx="64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Dariusz Glazik – Naczelnik Wydziału Edukacji, Kultury i Spor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Starostwa Powiatowego w Bytow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84280" y="380880"/>
            <a:ext cx="1001880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orbel"/>
              </a:rPr>
              <a:t>Efekty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484280" y="1930320"/>
            <a:ext cx="100188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Corbel"/>
              </a:rPr>
              <a:t>zjednoczenie sił, współpraca i podjęcie wspólnych działań na rzecz rozwoju edukacji,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Corbel"/>
              </a:rPr>
              <a:t>ścisła współpraca nauczycieli pracujących na różnych szczeblach edukacyjnych,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Corbel"/>
              </a:rPr>
              <a:t>wzajemne zrozumienie i zwiększenie świadomości dotyczącej problemów edukacyjnych na różnych szczeblach,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Corbel"/>
              </a:rPr>
              <a:t>utworzenie strony internetowej jako platformy edukacyjnej wymiany myśli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85800" y="-165240"/>
            <a:ext cx="10018800" cy="7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4000" spc="-1" strike="noStrike" u="sng">
                <a:solidFill>
                  <a:srgbClr val="3085ed"/>
                </a:solidFill>
                <a:uFillTx/>
                <a:latin typeface="Corbel"/>
                <a:hlinkClick r:id="rId1"/>
              </a:rPr>
              <a:t>www.knws.pl</a:t>
            </a:r>
            <a:r>
              <a:rPr b="0" lang="pl-PL" sz="4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4" name="Symbol zastępczy zawartości 3" descr=""/>
          <p:cNvPicPr/>
          <p:nvPr/>
        </p:nvPicPr>
        <p:blipFill>
          <a:blip r:embed="rId2"/>
          <a:stretch/>
        </p:blipFill>
        <p:spPr>
          <a:xfrm>
            <a:off x="2346480" y="774720"/>
            <a:ext cx="8994600" cy="575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84280" y="685440"/>
            <a:ext cx="10018800" cy="519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5400" spc="-1" strike="noStrike">
                <a:solidFill>
                  <a:srgbClr val="000000"/>
                </a:solidFill>
                <a:latin typeface="Corbel"/>
              </a:rPr>
              <a:t>DZIĘKUJĘ ZA UWAGĘ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orbel"/>
              </a:rPr>
              <a:t>CEL GŁÓWNY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484280" y="2336760"/>
            <a:ext cx="10018800" cy="34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Budowa powiatowego systemu</a:t>
            </a: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doskonalenia nauczycieli</a:t>
            </a:r>
            <a:r>
              <a:rPr b="0" i="1" lang="pl-PL" sz="32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spójnego z rozwojem szkół,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kreowanie wspólnej i spójnej polityki edukacyjnej organów prowadzących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na wszystkich etapach edukacyjnych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84280" y="26676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orbel"/>
              </a:rPr>
              <a:t>Założenia projektu: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484280" y="2019240"/>
            <a:ext cx="10018800" cy="391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rbel"/>
              </a:rPr>
              <a:t>Wspólna partycypacja organizacyjna i finansowa wszystkich jst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orbel"/>
              </a:rPr>
              <a:t>z terenu powiatu bytowskiego w budowę systemu wspierania nauczycieli na wszystkich etapach edukacyjnych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rbel"/>
              </a:rPr>
              <a:t>Powołanie do życia niezinstytucjonalizowanej formy ośrodka kształcenia i wspierania nauczycieli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rbel"/>
              </a:rPr>
              <a:t>Zlecenie organizacji pozarządowej realizacji zadania publicznego dotyczącego dokształcania i doskonalenia zawodowego nauczycieli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orbel"/>
              </a:rPr>
              <a:t>Czas trwania projektu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4000" spc="-1" strike="noStrike" u="sng">
                <a:solidFill>
                  <a:srgbClr val="000000"/>
                </a:solidFill>
                <a:uFillTx/>
                <a:latin typeface="Corbel"/>
              </a:rPr>
              <a:t>lata 2015-2017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z możliwością przedłużenia na kolejne lat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84280" y="151920"/>
            <a:ext cx="10018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orbel"/>
              </a:rPr>
              <a:t>Geneza projektu i harmonogram prac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484280" y="1650960"/>
            <a:ext cx="10018800" cy="52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1199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debata oświatowa zorganizowana przez Bytowskie Stowarzyszenie Oświatowe – idea dialogu edukacyjnego na wszystkich etapach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1199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opracowanie ramowych założeń projektu, rozmowy z przedstawicielami jst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1199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wyłonienie lidera i podpisanie porozumień dot. finansowania zadania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1199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organizacja otwartego konkursu ofert w trybie ustawy o organizacjach pożytku publicznego i o wolontariacie i wyłonienie podmiotu realizującego zadanie zlecone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1199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realizacja zadania przez Bytowskie Stowarzyszenie Oświatow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84280" y="291600"/>
            <a:ext cx="10018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orbel"/>
              </a:rPr>
              <a:t>Utworzenie dwóch sieci wsparcia w ramach przedsięwzięcia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1199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 u="sng">
                <a:solidFill>
                  <a:srgbClr val="000000"/>
                </a:solidFill>
                <a:uFillTx/>
                <a:latin typeface="Corbel"/>
              </a:rPr>
              <a:t>Sieć instytucjonalna</a:t>
            </a:r>
            <a:r>
              <a:rPr b="0" lang="pl-PL" sz="2800" spc="-1" strike="noStrike">
                <a:solidFill>
                  <a:srgbClr val="000000"/>
                </a:solidFill>
                <a:latin typeface="Corbel"/>
              </a:rPr>
              <a:t> – jednostki samorządu terytorialneg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1199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 u="sng">
                <a:solidFill>
                  <a:srgbClr val="000000"/>
                </a:solidFill>
                <a:uFillTx/>
                <a:latin typeface="Corbel"/>
              </a:rPr>
              <a:t>Sieć merytoryczna</a:t>
            </a:r>
            <a:r>
              <a:rPr b="0" lang="pl-PL" sz="2800" spc="-1" strike="noStrike">
                <a:solidFill>
                  <a:srgbClr val="000000"/>
                </a:solidFill>
                <a:latin typeface="Corbel"/>
              </a:rPr>
              <a:t> – organizacje pozarządowe, dyrektorzy placówek oświatowych, nauczyciel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484280" y="1168200"/>
            <a:ext cx="10018800" cy="462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Corbel"/>
              </a:rPr>
              <a:t>Sieć instytucjonalna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w jej skład wchodzą wszystkie jst z terenu powiatu bytowskiego (10 gmin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i powiat). Po raz pierwszy w historii Powiatu Bytowskiego udało się skupić wszystkie samorządy w jednym projekcie. Główne zadanie: pomoc organizacyjna i finansowanie „sieciowania nauczycieli”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Lider sieci: Gmina Bytów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484280" y="762120"/>
            <a:ext cx="10018800" cy="544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Corbel"/>
              </a:rPr>
              <a:t>Sieć merytoryczna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formalnie zarządzana przez Bytowskie Stowarzyszenie Oświatowe, któremu jst zleciło realizację zadania w latach 2015-2017. W ramach tej sieci powstały „podsieci”: nauczanie wczesnoszkolne, edukacje: artystyczna, zawodowa, przyrodnicza, matematyczna, języków obcych i humanistyczna. Praca w danej „podsieci” polega na dzieleniu się doświadczeniem zawodowym oraz służy wypracowaniu rozwiązań, które zostaną wdrażane przez jej uczestnik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w ramach każdej sieci. Pracami każdej podsieci kieruje koordynator, a nad całością pieczę sprawuje Powiatowy Organizator Doskonalenia Nauczycieli powołany przez Zarząd Bytowskiego Stowarzyszenia Oświatowego. Udział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w sieciach jest dla nauczycieli i dyrektorów szkół nieodpłatny. Każda z sieci współpracy i samokształcenia wyznacza własne cele i program działani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w obrębie jasno określonego tematu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58720" y="254160"/>
            <a:ext cx="100184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orbel"/>
              </a:rPr>
              <a:t>Budżet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776240" y="1981080"/>
            <a:ext cx="10018800" cy="383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rbel"/>
              </a:rPr>
              <a:t>Roczny budżet projektu – 28.000 zł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rbel"/>
              </a:rPr>
              <a:t>Środki finansowe na realizację zadania pochodzą od jednostek samorządu terytorialnego wg następującego klucza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rbel"/>
              </a:rPr>
              <a:t>gminy wiejskie – po 2.000 zł każda jst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orbel"/>
              </a:rPr>
              <a:t>(8 gmin x 2.000 zł = 16.000 zł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rbel"/>
              </a:rPr>
              <a:t>gminy miejskie i Powiat Bytowski – po 4.000 zł każda jst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orbel"/>
              </a:rPr>
              <a:t>(2 gminy i powiat x 4.000 zł = 12.000 zł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3T05:43:43Z</dcterms:created>
  <dc:creator>Powiat Bytowski</dc:creator>
  <dc:description/>
  <dc:language>en-US</dc:language>
  <cp:lastModifiedBy>Lenovo G510</cp:lastModifiedBy>
  <cp:lastPrinted>2016-05-23T08:21:38Z</cp:lastPrinted>
  <dcterms:modified xsi:type="dcterms:W3CDTF">2016-05-23T12:43:51Z</dcterms:modified>
  <cp:revision>20</cp:revision>
  <dc:subject/>
  <dc:title>System Wspierania Nauczycieli w Powiecie Bytowskim.  „Konsorcjum samorządowe”  na rzecz edukacji</dc:title>
</cp:coreProperties>
</file>