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6708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855360" y="744480"/>
            <a:ext cx="49575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99B5-EB7C-44FE-A464-EB7A5491A03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9" name="Symbol zastępczy numeru slajdu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6547-E5FA-4873-9327-C77A7C3D69DA}" type="slidenum">
              <a:rPr b="0" lang="pl-PL" sz="1200" spc="-1" strike="noStrike">
                <a:solidFill>
                  <a:srgbClr val="003366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ymbol zastępczy numeru slajdu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B89C-1B51-408A-A7A9-C99159DA8016}" type="slidenum">
              <a:rPr b="0" lang="pl-PL" sz="1200" spc="-1" strike="noStrike">
                <a:solidFill>
                  <a:srgbClr val="003366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0367-8812-4B51-8C37-24397F22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68F-8230-47BE-906E-86483CC5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CE3-BD79-4430-8135-81FFC7A9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5FAD-B4E8-465E-AC58-36F29F1F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8A42-3C66-40E8-91FC-56DB8D5E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715B-E664-4675-BC8D-9B90B191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4282-C1FB-418F-8C52-C3E3DD88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6328-D686-4CEB-8B31-E05E1C84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3DE8-C799-40FE-A2C9-1BB1E8AC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4D6E-863A-4046-A2C5-C4E050A1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DB8F-DCE8-4CD2-B9B6-5D8A4CDC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2EC-1771-48D2-8F9A-B990AFD8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287A-B267-4DEB-ADB3-EDB9A882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F44B-F043-492F-B02C-BD49AE75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0437-A9E3-4799-99B1-0A72337A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8428-B26D-4703-B1FF-1994D826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892F-C92C-4DB2-AC9A-E742D9F8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F06C-3859-4EDD-BB7C-78706B8B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37E8-41A3-4340-A310-7CAE34C8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CE11-CC85-403B-9712-873FC355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BB1-4A1B-4691-A2E9-579AF873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E3F-F5DA-4E8E-8887-FFA76A02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681-5A19-4615-9063-DFBCB4A1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36F5-6B8B-40CD-8B30-3D828C80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19D9-42B2-46EF-8FC0-FD678A632C1E}" type="slidenum">
              <a:rPr b="1" lang="pl-P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07AB-A958-4EB8-8DFF-7387B218E305}" type="slidenum">
              <a:rPr b="1" lang="pl-P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olidarnosc.gda.pl/osswiata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3360" y="118692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Tytuły (do wyboru):</a:t>
            </a:r>
            <a:br>
              <a:rPr sz="1600"/>
            </a:br>
            <a:br>
              <a:rPr sz="1600"/>
            </a:b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- Powrót do starego ustroju szkolnego z… lekkimi modyfikacjami,</a:t>
            </a:r>
            <a:br>
              <a:rPr sz="2000"/>
            </a:b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- Gimnazjum – koło zamachowe i słabe ogniwo reformy,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43280" y="2205000"/>
            <a:ext cx="4013280" cy="250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64d"/>
                </a:solidFill>
                <a:latin typeface="Arial"/>
              </a:rPr>
              <a:t>Październik 2016 r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64d"/>
                </a:solidFill>
                <a:latin typeface="Arial"/>
              </a:rPr>
              <a:t>Opr. </a:t>
            </a:r>
            <a:r>
              <a:rPr b="1" i="1" lang="pl-PL" sz="1200" spc="-1" strike="noStrike">
                <a:solidFill>
                  <a:srgbClr val="00264d"/>
                </a:solidFill>
                <a:latin typeface="Arial"/>
              </a:rPr>
              <a:t>Wojciech Książe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264d"/>
                </a:solidFill>
                <a:latin typeface="Arial"/>
              </a:rPr>
              <a:t>Przewodniczący „Solidarności” oświatowej w Regionie Gdańskim, wiceminister Edukacji Narodowej  w  latach 1997 – 2001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264d"/>
                </a:solidFill>
                <a:latin typeface="Arial"/>
              </a:rPr>
              <a:t>Z wykorzystaniem opracowania prof. Mirosława Handke – Ministra Edukacji Narodowej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264d"/>
                </a:solidFill>
                <a:latin typeface="Arial"/>
              </a:rPr>
              <a:t>w latach 1997 - 200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Pomoc gimnazj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Brak refleksji krytycznej w odpowiedzi MEN z 5 kwietnia 2014 r. ws. programu pomocy gimnazjom (</a:t>
            </a:r>
            <a:r>
              <a:rPr b="0" lang="pl-PL" sz="1400" spc="-1" strike="noStrike">
                <a:solidFill>
                  <a:srgbClr val="c00000"/>
                </a:solidFill>
                <a:latin typeface="Arial"/>
              </a:rPr>
              <a:t>Pycha często kroczy przed upadkiem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c00000"/>
                </a:solidFill>
                <a:latin typeface="Arial"/>
              </a:rPr>
              <a:t>Potrzeba tworzenia zespołów: gimnazjum + szkoła ponadgimnazjalna </a:t>
            </a:r>
            <a:r>
              <a:rPr b="0" lang="pl-PL" sz="1200" spc="-1" strike="noStrike">
                <a:solidFill>
                  <a:srgbClr val="c00000"/>
                </a:solidFill>
                <a:latin typeface="Arial"/>
              </a:rPr>
              <a:t>(nie tylko zespołów SP i G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c00000"/>
                </a:solidFill>
                <a:latin typeface="Arial"/>
              </a:rPr>
              <a:t>Odejście od gimnazjów tzw. molochów </a:t>
            </a:r>
            <a:r>
              <a:rPr b="0" lang="pl-PL" sz="1200" spc="-1" strike="noStrike">
                <a:solidFill>
                  <a:srgbClr val="c00000"/>
                </a:solidFill>
                <a:latin typeface="Arial"/>
              </a:rPr>
              <a:t>(w ponad 400 jest ponad 400  uczniów)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c00000"/>
                </a:solidFill>
                <a:latin typeface="Arial"/>
              </a:rPr>
              <a:t>Dofinansowanie gimnazjów </a:t>
            </a:r>
            <a:r>
              <a:rPr b="0" lang="pl-PL" sz="1200" spc="-1" strike="noStrike">
                <a:solidFill>
                  <a:srgbClr val="c00000"/>
                </a:solidFill>
                <a:latin typeface="Arial"/>
              </a:rPr>
              <a:t>(m. in. na ich doposażenie, poszerzenie oferty zajęć wyrównawczych – szczególnie w klasach pierwszych, zapewnienie dożywiania, opieki lekarsko-stomatologicznej)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Zatrudnienie, często w zdecydowanie w większym niż do tej pory zakresie, nauczycieli specjalistów: pedagogów, psychologów, socjoterapeutów, </a:t>
            </a:r>
            <a:r>
              <a:rPr b="1" lang="pl-PL" sz="1200" spc="-1" strike="noStrike" u="sng">
                <a:solidFill>
                  <a:srgbClr val="c00000"/>
                </a:solidFill>
                <a:uFillTx/>
                <a:latin typeface="Arial"/>
              </a:rPr>
              <a:t>a głównie doradców zawodowych</a:t>
            </a:r>
            <a:r>
              <a:rPr b="1" lang="pl-PL" sz="1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c00000"/>
                </a:solidFill>
                <a:latin typeface="Arial"/>
              </a:rPr>
              <a:t>Tworzenie pozaobowodowych gimnazjów prozawodowych – przysposabiających do pracy</a:t>
            </a: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Zapewnienie mniejszej liczebności uczniów w oddziałach gimnazjalnych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Zagwarantowanie systemu oceniania, który będzie promował </a:t>
            </a:r>
            <a:r>
              <a:rPr b="1" lang="pl-PL" sz="1200" spc="-1" strike="noStrike">
                <a:solidFill>
                  <a:srgbClr val="002060"/>
                </a:solidFill>
                <a:latin typeface="Arial"/>
              </a:rPr>
              <a:t>wyniki i osiągnięcia </a:t>
            </a: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wewnątrzszkolne, nie tylko wyniki tzw. testów zewnętrznych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c00000"/>
                </a:solidFill>
                <a:latin typeface="Arial"/>
              </a:rPr>
              <a:t>Przegląd programu lektur, rozważenie odejścia odejście od systemu nauczania 3 + 1 np. z historii</a:t>
            </a: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Wspieranie nauczycieli tak jeżeli chodzi o formy doskonalenia mistrzostwa zawodowego, jak i </a:t>
            </a:r>
            <a:r>
              <a:rPr b="1" lang="pl-PL" sz="1200" spc="-1" strike="noStrike">
                <a:solidFill>
                  <a:srgbClr val="002060"/>
                </a:solidFill>
                <a:latin typeface="Arial"/>
              </a:rPr>
              <a:t>przywrócenie równowagi praw i </a:t>
            </a: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powinności w stosunku do uczniów i ich rodziców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Warto pamiętać, że w reformie J. Jędrzejewicza nie było obowiązku szkolnego do 18. roku życia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4A91-9B02-4328-BDD2-9693A01A004F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Program edukacyjny obecnej koalicji rządzącej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00000"/>
                </a:solidFill>
                <a:latin typeface="Arial"/>
              </a:rPr>
              <a:t>Przywrócenie czteroletniego liceum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00000"/>
                </a:solidFill>
                <a:latin typeface="Arial"/>
              </a:rPr>
              <a:t>Przywrócenie szkoły podstawowej – ośmioklasowej jako bardziej przyjaznej uczniom w wieku 7 – 15 lat, a także w miarę nieodległej od ich domów rodzinnych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00000"/>
                </a:solidFill>
                <a:latin typeface="Arial"/>
              </a:rPr>
              <a:t>Zmiany szkolnictwa zawodowego: 5-letnie technikum i szkoły branżowe: 3 + 2</a:t>
            </a:r>
            <a:r>
              <a:rPr b="0" lang="pl-PL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(w ostatnich latach nastąpiły zmiany ram kwalifikacji zawodowych. Wybór szkoły branżowej to już dalej tylko matura zawodowa i ewentualnie licencjat zawodowy. Trzeba uważać, aby nie kodyfikować pułapek, ślepych uliczek rozwoju młodych ludzi?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Hasło: „</a:t>
            </a:r>
            <a:r>
              <a:rPr b="0" i="1" lang="pl-PL" sz="1400" spc="-1" strike="noStrike">
                <a:solidFill>
                  <a:srgbClr val="c00000"/>
                </a:solidFill>
                <a:latin typeface="Arial"/>
              </a:rPr>
              <a:t>Likwidacja gimnazjów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” wydaje się bardziej sposobem-formą dla osiągnięcia powyższych celów. Rodzajem prostego hasła, które ułatwiało prowadzenie takiej a nie innej narracji wyborczej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Widać, że jest to odpowiedź na głosy krytyki wobec obecnego ustroju szkolnego. Trzeba uznawać racje ugrupowań, które starają się zrealizować program wyborczy (np. nie było w programach wyborczych w 2011 zmian systemu emerytur - 67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8DA0-32ED-48C7-ABF6-106D35429873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Ocena sytuacji – uwaga na obaw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Lęki o utratę pracy przez nauczycieli i pracowników administracji i obsługi szkół i obawy o brak przyjęcia programu osłonowego 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(szacuje się, że zagrożonych jest ok. 30  tys. ludzi oświaty </a:t>
            </a:r>
            <a:r>
              <a:rPr b="0" lang="pl-PL" sz="1600" spc="-1" strike="noStrike">
                <a:solidFill>
                  <a:srgbClr val="c00000"/>
                </a:solidFill>
                <a:latin typeface="Arial"/>
              </a:rPr>
              <a:t>(postulaty „S” - w załączeniu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Niedostateczne środki finansowe na przeprowadzenie zmiany 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(związki samorządowe szacują je na ok. 1 mld zł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Brak podwyżek dla nauczycieli 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(ostatnia była 1 września 2012 r. W 2017 r. planuje się o 1,3% - średnio o ok. 40 zł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Brak czasu na dobre przygotowanie podręczników i programów nauczania – szczególnie dla klas I, IV i VII SP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Potrzeba poprawy przekazu informacyjnego – szczególnie do szkół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Uwagi inne - Zbyt długi czas obecności uczniów w jednej szkole (8 lat)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Prawdopodobne oczekiwanie na możliwość tworzenia zespołów od kl. V SP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Uwaga na zapisy otwierające drogi komercjalizacyjne szkół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Obawy o zbytni elitaryzm możliwości zdobywania matury i magisterium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681D-280F-4A89-A327-829AB9B895E6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Program osłonowy - szczegół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Przywrócenie </a:t>
            </a: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możliwości przejścia na emeryturę</a:t>
            </a: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 dla wszystkich nauczycieli we wszystkich typach szkół i placówek oświatowych na podstawie art. 88 Karty Nauczyciela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Wprowadzenie </a:t>
            </a: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standardu maksymalnej liczby uczniów</a:t>
            </a: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 w klasie z jednoczesnym określeniem podziałów na grupy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Wprowadzenie </a:t>
            </a: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programu rezygnacji nauczycieli z zawodu</a:t>
            </a: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 za odpowiednią rekompensatą finansową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Wprowadzenie </a:t>
            </a: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przejrzystych zasad finansowania szkół</a:t>
            </a: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 i placówek oświatowych wszystkich typów – w tym podwyżki wynagrodzeń dla nauczycieli o 20%. Do uzgodnień w ramach Zespołu ds. statusu zawodowego pracowników oświaty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Wydłużenie stanu nieczynnego</a:t>
            </a: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 dla nauczycieli do 12 miesięcy (art. 20 KN)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Zapewnienie opiniowania przez ZZ </a:t>
            </a: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arkuszy organizacyjnych szkół i placówek oświatowych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Finansowanie z budżetu państwa zajęć pozalekcyjnych w szkołach i placówkach oświatowych (w miejsce tzw. godzin pokarcianych)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Ujednolicenie pensum godzin dla nauczycieli specjalistów</a:t>
            </a: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 (m.in. psychologów, pedagogów, logopedów, </a:t>
            </a:r>
            <a:r>
              <a:rPr b="1" lang="pl-PL" sz="1200" spc="-1" strike="noStrike">
                <a:solidFill>
                  <a:srgbClr val="c00000"/>
                </a:solidFill>
                <a:latin typeface="Arial"/>
              </a:rPr>
              <a:t>doradców zawodowych</a:t>
            </a: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)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c00000"/>
                </a:solidFill>
                <a:latin typeface="Arial"/>
              </a:rPr>
              <a:t>Utworzenie </a:t>
            </a:r>
            <a:r>
              <a:rPr b="1" i="1" lang="pl-PL" sz="1200" spc="-1" strike="noStrike">
                <a:solidFill>
                  <a:srgbClr val="c00000"/>
                </a:solidFill>
                <a:latin typeface="Arial"/>
              </a:rPr>
              <a:t>banku danych dla bezrobotnych nauczycieli</a:t>
            </a:r>
            <a:r>
              <a:rPr b="0" i="1" lang="pl-PL" sz="1200" spc="-1" strike="noStrike">
                <a:solidFill>
                  <a:srgbClr val="c00000"/>
                </a:solidFill>
                <a:latin typeface="Arial"/>
              </a:rPr>
              <a:t> (przy Kuratoriach, może też Urzędach Pracy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c00000"/>
                </a:solidFill>
                <a:latin typeface="Arial"/>
              </a:rPr>
              <a:t>Wprowadzenie mechanizmu </a:t>
            </a:r>
            <a:r>
              <a:rPr b="1" i="1" lang="pl-PL" sz="1200" spc="-1" strike="noStrike">
                <a:solidFill>
                  <a:srgbClr val="c00000"/>
                </a:solidFill>
                <a:latin typeface="Arial"/>
              </a:rPr>
              <a:t>kontroli zatrudnienia</a:t>
            </a:r>
            <a:r>
              <a:rPr b="0" i="1" lang="pl-PL" sz="1200" spc="-1" strike="noStrike">
                <a:solidFill>
                  <a:srgbClr val="c00000"/>
                </a:solidFill>
                <a:latin typeface="Arial"/>
              </a:rPr>
              <a:t> (gdy ponad etat - więcej niż 1 stosunek pracy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3366"/>
                </a:solidFill>
                <a:latin typeface="Arial"/>
              </a:rPr>
              <a:t>Możliwość </a:t>
            </a:r>
            <a:r>
              <a:rPr b="1" i="1" lang="pl-PL" sz="1200" spc="-1" strike="noStrike">
                <a:solidFill>
                  <a:srgbClr val="003366"/>
                </a:solidFill>
                <a:latin typeface="Arial"/>
              </a:rPr>
              <a:t>uzupełnienia kwalifikacji do nauczania innych przedmiotów</a:t>
            </a:r>
            <a:r>
              <a:rPr b="0" i="1" lang="pl-PL" sz="1200" spc="-1" strike="noStrike">
                <a:solidFill>
                  <a:srgbClr val="003366"/>
                </a:solidFill>
                <a:latin typeface="Arial"/>
              </a:rPr>
              <a:t> (studia podyplomowe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2BEE-C995-4679-AC60-2AE976893E4C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Co dalej – </a:t>
            </a:r>
            <a:br>
              <a:rPr sz="3600"/>
            </a:b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możliwe działania formal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Poparcie nowej struktury szkolnictwa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ew. koncentrując się na zgłaszaniu szczegółowych uwag, propozycji do projektu tzw. ustawy ustrojowej oraz projektów aktów wykonawczych MEN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Sprzeciw - brak zgody na zmiany obecnej struktury szkolnictwa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ewentualnie apelując o ogłoszenie ogólnokrajowego </a:t>
            </a: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referendum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 w tej sprawie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Zmiana stanowiska MEN w takich sprawach, jak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85800" indent="-22860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ybór innego modelu ustroju szkolnego z 8 + 4 np. </a:t>
            </a:r>
            <a:r>
              <a:rPr b="0" lang="pl-PL" sz="1400" spc="-1" strike="noStrike">
                <a:solidFill>
                  <a:srgbClr val="c00000"/>
                </a:solidFill>
                <a:latin typeface="Arial"/>
              </a:rPr>
              <a:t>na model: 5 (plus tzw. zerówka ) + 3 + 4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685800" indent="-22860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Rozpoczęcie zmiany proponowanej przez MEN tylko od I klas szkół podstawowych 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(a nie także równolegle od IV i VII SP). Szanowałoby się „prawa nabyte” uczniów i byłoby też więcej czasu na przygotowanie zmia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685800" indent="-22860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Przesunięcie wdrażania ogłoszonego programu o minimum rok, tj.  na rok szkolny  2018/2019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. Byłoby więcej czasu na lepsze przygotowanie programów, podręczników, sieci szkolnej, ale też znalezienie zatrudnienia dla pracowników oświaty zagrożonych redukcją etatów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A212-1116-4ABA-9B9A-AF7356F441DF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c653c"/>
                </a:solidFill>
                <a:latin typeface="Arial"/>
              </a:rPr>
              <a:t>Co dalej – </a:t>
            </a:r>
            <a:br>
              <a:rPr sz="3600"/>
            </a:br>
            <a:r>
              <a:rPr b="1" lang="pl-PL" sz="3600" spc="-1" strike="noStrike">
                <a:solidFill>
                  <a:srgbClr val="3c653c"/>
                </a:solidFill>
                <a:latin typeface="Arial"/>
              </a:rPr>
              <a:t>Pakt o edukacji ponad podziałam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Pamiętać, że szkoła to dzieci – uczniowie. Młodzi ludzie nie mogą być zakładnikami zmiennych pomysłów dorosłych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Zachować spokój – prowadzić rzeczywisty DIALOG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Unikać języka konfrontacji zawartego w myśleniu: </a:t>
            </a:r>
            <a:r>
              <a:rPr b="1" i="1" lang="pl-PL" sz="1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i="1" lang="pl-PL" sz="1800" spc="-1" strike="noStrike">
                <a:solidFill>
                  <a:srgbClr val="c00000"/>
                </a:solidFill>
                <a:latin typeface="Arial"/>
              </a:rPr>
              <a:t>My to odwrócimy, jak wrócimy do władzy</a:t>
            </a: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”. Zbyt częste zmiany byłyby nieszczęściem dla szkół i Polski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Podjąć prace (pod patronatem Prezydenta RP, Premiera, ew. Rady Dialogu Społecznego?) na rzecz zawarcia PAKTU o EDUKACJI (UMOWY EDUKACYJNEJ), żeby wypracować porozumienie różnych sił politycznych, partnerów społecznych, przedstawicieli szkolnictwa, nauki, na więcej lat</a:t>
            </a: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Edukacja jest strukturą tzw. długiego trwania – jeden cykl szkolny to min. 12 lat, ze studiami: 16-17)</a:t>
            </a: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CCAF-591E-4D42-AE3C-3E04E4888F67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Podsumowanie - Podziękowa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Na str. </a:t>
            </a:r>
            <a:r>
              <a:rPr b="0" lang="pl-PL" sz="1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solidarnosc.gda.pl/oswiata</a:t>
            </a: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 - są teksty 2 publikacji o reformie: „</a:t>
            </a:r>
            <a:r>
              <a:rPr b="1" i="1" lang="pl-PL" sz="1400" spc="-1" strike="noStrike">
                <a:solidFill>
                  <a:srgbClr val="c00000"/>
                </a:solidFill>
                <a:latin typeface="Arial"/>
              </a:rPr>
              <a:t>Rzecz o reformie edukacji” – 2001, „Recz o reformowaniu edukacji czyli… a to Polska właśnie” - 2005</a:t>
            </a:r>
            <a:r>
              <a:rPr b="1" i="1" lang="pl-PL" sz="1400" spc="-1" strike="noStrike">
                <a:solidFill>
                  <a:srgbClr val="002060"/>
                </a:solidFill>
                <a:latin typeface="Arial"/>
              </a:rPr>
              <a:t>, mogę też przesłać tę prezentację, wraz z aneksem (16 + 22 slajdy),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Składam dwa wnioski – rekomendacje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O zlecenie badania zmian poziomu wykształcenia na Pomorzu w ostatnich 15. latach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O wystąpienie  z APELEM do władz RP (Prezydenta, Premiera, Rady Dialogu Społecznego) z prośbą o zainicjowanie prac nad zawarciem </a:t>
            </a: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paktu o edukacji</a:t>
            </a: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Składam - także w imieniu ministrów: Mirosława Handke, ś.p. Anny Radziwiłł, ś.p. Ireny Dzierzgowskiej i wielu innych, z którymi pracowaliśmy nad projektami zmian - </a:t>
            </a: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serdeczne podziękowania </a:t>
            </a: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dyrektorom i nauczycielom szkół, pracownikom organów prowadzących, naszym następcom w MEN, w kuratoriach, placówkach doskonalenia nauczycieli za wszystko, co zrobiliście Państwo dla polskiej oświaty, której ważnym ogniwem przez 17 lat jest już gimnazjum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5A68-6A3C-439D-A951-8BBC64E5855D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Warto wiedzieć – wybór dany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c00000"/>
                </a:solidFill>
                <a:uFillTx/>
                <a:latin typeface="Arial"/>
              </a:rPr>
              <a:t>W 1999 roku w roczniku było ponad 800 tys. dzieci, obecnie ponad 40% mniej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Było 40% bezrobocie w grupie absolwentów szkół i uczelni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Jest ok. 7 tys. gimnazjów (na 28.500 szkół). W tym ponad 30% - samodzielnie. Uczy się w nich ok. 1.5 mln uczniów, jest tam zatrudnionych ok. 100 tys. nauczycieli, ok. 20 tys. pracowników administracji i obsługi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Pracę może stracić – szacunkowo – w przeliczeniu na etaty - ok. 30 tys. nauczycieli, ok. 5 tys. pracowników administracji i obsługi szkół, ok. 2 000 dyrektorów – tych nie z zespołu. W LO ok. 35 tys. nauczycieli pracuje na niepełnym etac</a:t>
            </a:r>
            <a:r>
              <a:rPr b="1" lang="pl-PL" sz="1400" spc="-1" strike="noStrike">
                <a:solidFill>
                  <a:srgbClr val="0a85ff"/>
                </a:solidFill>
                <a:latin typeface="Arial"/>
              </a:rPr>
              <a:t>i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W woj. pomorskim w 2016 r. są 421 gimnazja (359 prowadzą JST), 134 są samodzielne - nie w zespołach szkół. Uczy w nich ok. 2,5 tys. nauczycieli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Według raportu ONZ z 1996 r. o analfabetyzmie funkcjonalnym (czytanie bez rozumienia treści) Polska znajdowała się na pierwszym miejscu w Europie (42%), przed Irlandią (24%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W grupie osób powyżej 15. roku życia w roku 1996  - tylko wykształcenie podstawowe miało: 27,6% mieszkańców miast i 43% mieszkańców wsi, zaś niepełne podstawowe  - odpowiednio 3,8% mieszkańców miast i 10,8% mieszkańców wsi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7E4E-8032-4064-AE91-542F4C46909C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Cele zmian - Dlaczego gimnazju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Miało być kołem zamachowym reformy – potem mogło się stać słabym ogniwem 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(stąd potrzeba analiz, wsparcia</a:t>
            </a: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). N</a:t>
            </a:r>
            <a:r>
              <a:rPr b="1" lang="pl-PL" sz="1400" spc="-1" strike="noStrike">
                <a:solidFill>
                  <a:srgbClr val="003366"/>
                </a:solidFill>
                <a:latin typeface="Arial"/>
                <a:ea typeface="Arial"/>
              </a:rPr>
              <a:t>owe treści i metody kształcenia wymagały nowej formy – system naczyń połączonych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Miał to być sposób na wyrównanie szans edukacyjnych dzieci ze wsi i miasteczek, rozbudzający ASPIRACJE, poprawiający poziom wykształcenia młodzieży  ze wsi i małych miast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Podniesieniu poziomu wykształcenia miało być sposobem na przeciwdziałanie bezrobociu (</a:t>
            </a:r>
            <a:r>
              <a:rPr b="0" lang="pl-PL" sz="1400" spc="-1" strike="noStrike">
                <a:solidFill>
                  <a:srgbClr val="c00000"/>
                </a:solidFill>
                <a:latin typeface="Arial"/>
              </a:rPr>
              <a:t>w 1999 r. bezrobotnymi było prawie 40% absolwentów szkół i uczelni</a:t>
            </a: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)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Miało oddzielić dzieci w wieku 7 - 13 lat, od młodzieży w wieku 14 - 16 lat  będącej w skomplikowanej fazie rozwoju, wymagającej od nauczycieli wiedzy i zapału, ale też cierpliwości i mądrości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Miało przywrócić polską tradycję edukacyjną (reforma ministra Janusza Jędrzejewicza: 6 + 4 + 2 z 1932 r. została zmieniona począwszy od 1948 r.) oraz dostosować polskie szkolnictwo do </a:t>
            </a: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trójstopniowego</a:t>
            </a: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 ustroju szkolnego obowiązującego w większości krajów UE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3119-B0E0-49AC-AF80-C27E92EFA5E6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Formy zmi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3366"/>
                </a:solidFill>
                <a:uFillTx/>
                <a:latin typeface="Arial"/>
              </a:rPr>
              <a:t>Zmiana ustroju szkolnego 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(6 [3 + 3] lata szkoły podstawowej + 3 gimnazjum + 3 LP oraz 2-3 lata szkoła zawodowa i 2-letnie liceum uzupełniające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3366"/>
                </a:solidFill>
                <a:uFillTx/>
                <a:latin typeface="Arial"/>
              </a:rPr>
              <a:t>Dostosowanie zarządzania i nadzorowania do nowego ustroju państwa 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(oddanie prowadzenia szkół samorządom terytorialnym – gminy, powiaty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3366"/>
                </a:solidFill>
                <a:uFillTx/>
                <a:latin typeface="Arial"/>
              </a:rPr>
              <a:t>Wprowadzenie niezależnego od szkoły systemu oceniania i egzaminowania 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(też przepustka na studia, porównywalność z krajami UE)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3366"/>
                </a:solidFill>
                <a:uFillTx/>
                <a:latin typeface="Arial"/>
              </a:rPr>
              <a:t>Zwiększenie wynagrodzeń nauczycieli w powiązaniu z nowymi  ścieżkami awansu  </a:t>
            </a: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25% więcej nauczyciel kontraktowy od n. stażysty, 75% - n. mianowany, 125% - n. dyplomowany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3366"/>
                </a:solidFill>
                <a:uFillTx/>
                <a:latin typeface="Arial"/>
              </a:rPr>
              <a:t>Zmiana  źródeł i sposobów finansowania zadań szkolnych </a:t>
            </a:r>
            <a:r>
              <a:rPr b="0" lang="pl-PL" sz="1600" spc="-1" strike="noStrike">
                <a:solidFill>
                  <a:srgbClr val="c00000"/>
                </a:solidFill>
                <a:latin typeface="Arial"/>
              </a:rPr>
              <a:t>(na wdrażanie reformy „mieliśmy” ok. 1,2 mld zł: pracownie internetowe, dowóz – gimbusy)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3366"/>
                </a:solidFill>
                <a:uFillTx/>
                <a:latin typeface="Arial"/>
              </a:rPr>
              <a:t>Wdrożenie reformy programowej obejmującej wprowadzenie podstaw programowych i inne zmiany programowe </a:t>
            </a: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możliwość wyboru programów i podręczników – w prog. autorskich</a:t>
            </a: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c00000"/>
                </a:solidFill>
                <a:latin typeface="Arial"/>
              </a:rPr>
              <a:t>akcent na programy wychowawczo-patriotyczne, informatykę, j. obce, przedsiębiorczość, edukację regionalną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6F53-0700-409C-B66B-F11A04CD9A9C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Znaczenie wyprzedzających działań informacyjnych ws. zmi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Działania informacyjno-promocyjne są niezwykle ważne. Często powinny wyprzedzać decyzje prawne. W okresie reformy 1999 r. były to m. in.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Koncepcja wstępna – Reforma systemu edukacji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” – publikacja przedstawiona w Poznaniu, 29 – 30 stycznia 1998 roku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Projekt reformy systemu edukacji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” – publikacja przedstawiona w Krakowie, 23 – 24 maja 1998 roku </a:t>
            </a:r>
            <a:r>
              <a:rPr b="0" lang="pl-PL" sz="1600" spc="-1" strike="noStrike">
                <a:solidFill>
                  <a:srgbClr val="c00000"/>
                </a:solidFill>
                <a:latin typeface="Arial"/>
              </a:rPr>
              <a:t>(zwierała m. in. projekty zmian ustawowych, podstaw programowych)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Reforma systemu edukacji – szkolnictwo ponadgimnazjalne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” – publikacja przedstawiona w kwietniu 2000 roku w Gdańsku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Biblioteczka reformy 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(ukazało się 40 zeszytów – </a:t>
            </a:r>
            <a:r>
              <a:rPr b="0" lang="pl-PL" sz="1600" spc="-1" strike="noStrike">
                <a:solidFill>
                  <a:srgbClr val="c00000"/>
                </a:solidFill>
                <a:latin typeface="Arial"/>
              </a:rPr>
              <a:t>pierwsze dwa jeszcze w 1998 r.  - o ustroju szkolnym, o sieci szkół, o finansowaniu, do dyrektorów, o zmianach programowych, itd..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Uruchomiliśmy serwis internetowy, powołano </a:t>
            </a:r>
            <a:r>
              <a:rPr b="1" lang="pl-PL" sz="1600" spc="-1" strike="noStrike" u="sng">
                <a:solidFill>
                  <a:srgbClr val="c00000"/>
                </a:solidFill>
                <a:uFillTx/>
                <a:latin typeface="Arial"/>
              </a:rPr>
              <a:t>Radę Konsultacyjną przy Premierze Jerzym Buzku</a:t>
            </a:r>
            <a:r>
              <a:rPr b="0" lang="pl-PL" sz="16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c00000"/>
                </a:solidFill>
                <a:latin typeface="Arial"/>
              </a:rPr>
              <a:t>Zespół w MEN, </a:t>
            </a: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byli pełnomocnicy kuratorów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Obecnie - same konferencje prasowe, internet, spotkania – za mał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F4BB-1EE2-450F-A347-6F911E4E0A09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217440" y="1557360"/>
            <a:ext cx="8605800" cy="4713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71880" y="524160"/>
            <a:ext cx="8438400" cy="66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Georgia"/>
              </a:rPr>
              <a:t>W Polsce odsetek uczniów osiągających najsłabsze wyniki należy do najniższych w Europi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57120" y="1785960"/>
            <a:ext cx="8572680" cy="4727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17600" y="282240"/>
            <a:ext cx="8346960" cy="129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Arial"/>
              </a:rPr>
              <a:t>Między 2000 a 2009 udało się znacząco obniżyć liczbę uczniów osiągających najsłabsze wyniki </a:t>
            </a:r>
            <a:br>
              <a:rPr sz="2800"/>
            </a:br>
            <a:r>
              <a:rPr b="1" lang="pl-PL" sz="2800" spc="-1" strike="noStrike">
                <a:solidFill>
                  <a:srgbClr val="002060"/>
                </a:solidFill>
                <a:latin typeface="Arial"/>
              </a:rPr>
              <a:t>w czytaniu i interpretacji – wyniki badań PISA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Wnioski z badań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00000"/>
                </a:solidFill>
                <a:latin typeface="Arial"/>
              </a:rPr>
              <a:t>Wprowadzenie gimnazjów wydłużyło kształcenie ogólne o rok</a:t>
            </a: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, co przyczyniło się do poprawy wyników uczniów –  zmiany wprowadzane w Polsce są uważane za jedne z najskuteczniejszych na świecie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25160" indent="-4251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Znacząco rozbudzone zostały ASPIRACJE uczniów, przystępowanie do egzaminów maturalnych, studiów (</a:t>
            </a:r>
            <a:r>
              <a:rPr b="1" lang="pl-PL" sz="1600" spc="-1" strike="noStrike">
                <a:solidFill>
                  <a:srgbClr val="c00000"/>
                </a:solidFill>
                <a:latin typeface="Arial"/>
              </a:rPr>
              <a:t>konieczna jest analiza zmian poziomu wykształcenia – np. na wsi)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25160" indent="-4251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40254"/>
                </a:solidFill>
                <a:latin typeface="Arial"/>
              </a:rPr>
              <a:t>Nastąpiło znaczące zmniejszenie grupy uczniów osiągających słabsze wyniki, potrzebna jest lepsza oferta dla osiągających najlepsze wyniki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25160" indent="-4251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40254"/>
                </a:solidFill>
                <a:latin typeface="Arial"/>
              </a:rPr>
              <a:t>Nastąpiła poprawa wyników w naukach przyrodniczych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25160" indent="-4251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40254"/>
                </a:solidFill>
                <a:latin typeface="Arial"/>
              </a:rPr>
              <a:t>Edukacja matematyczna wymaga przemian (poprawa wyników nastąpiła w badaniu z 2012 roku, czyli kilka lat po przywróceniu matematyki jako obowiązkowego przedmiotu na maturze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25160" indent="-4251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00000"/>
                </a:solidFill>
                <a:latin typeface="Arial"/>
              </a:rPr>
              <a:t>Problem JAKOŚCI wiedzy studentów można rozwiązać m. in. podniesieniem progu zdawalności matury (obecnie min. 30%) i zmianą zasad finansowania uczelni </a:t>
            </a: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– zależną od LICZBY studentów</a:t>
            </a: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25160" indent="-4251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058E-0CF6-4BBB-93E1-468B9778ED7D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Zgłaszane uwagi do ustroju szkolnego (gimnazjum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Zbyt krótkie nauczanie w liceum 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(niecałe 3 lata)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Zbyt krótki czas edukacji w gimnazjum 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poczucie braku zakorzenienia, anonimowość uczniów, zjawiska przemocy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)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Redukcja znaczenia szkolnictwa zawodowego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Dowóz do gimnazjów, daleko od domów rodzinnych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Uwagi do egzaminów zewnętrznych – nauczanie „pod testy”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Zły odbiór gimnazjów w mediach, opinii publicznej (ok. 50-70% za ich likwidacją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Wydaje się, że bardzo duży rozwój inwestycji szkolnych – także szkół podstawowych (pracownie internetowe, sale gimnastyczne), przysłonił częściowo znaczenie i rolę gimnazjów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3281-F4E0-4C89-94B6-6C078EE6B1B9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9:26:06Z</dcterms:created>
  <dc:creator>nec</dc:creator>
  <dc:description/>
  <dc:language>en-US</dc:language>
  <cp:lastModifiedBy>Wojciech</cp:lastModifiedBy>
  <dcterms:modified xsi:type="dcterms:W3CDTF">2016-11-02T23:09:06Z</dcterms:modified>
  <cp:revision>268</cp:revision>
  <dc:subject/>
  <dc:title>Sześciolatki w szkole</dc:title>
</cp:coreProperties>
</file>