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983-C3A6-4D6D-8F59-CEAC96958E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62. 1. Z dniem 1 września 2017 r. dotychczasowa zasadnicza szkoła zawodowa staje się branżową szkołą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 stopnia, o której mowa w art. 18 ust. 1 pkt 2 lit. c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Organ stanowiący jednostki samorządu terytorialnego prowadzącej dotychczasową zasadniczą szkołę zawodową, w terminie do dnia 30 listopada 2017 r., w drodze uchwały, stwierdza jej przekształcenie w branżową szkołę I stopnia zgodnie z ust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Uchwała, o której mowa w ust. 2, stanowi akt założycielski branżowej szkoły I stopnia w rozumieniu przepisów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Pierwsze postępowanie rekrutacyjne do klasy I branżowej szkoły I stopnia dla absolwentów ośmioletniej szkoły podstawowej przeprowadza się na rok szkolny 2019/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W latach szkolnych 2019/2020–2021/2022 w branżowej szkole I stopnia organizuje się odrębne oddziały dla absolwentów gimnazjum oraz dla absolwentów ośmioletniej szkoły podstawow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110-0A43-42FE-91FF-5C11066749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91. 1. Z dniem 1 września 2017 r. zespół publicznych szkół, w skład którego wchodzi jedynie dotychczasow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ześcioletnia szkoła podstawowa i dotychczasowe gimnazjum, staje się ośmioletnią szkołą podstawow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Organ stanowiący jednostki samorządu terytorialnego prowadzącej dotychczasowy zespół publicznych szkół, o którym mowa w ust. 1, w terminie do dnia 30 listopada 2017 r., w drodze uchwały, stwierdza jego przekształcenie w ośmioletnią szkołę podstawową zgodnie z ust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Uchwała, o której mowa w ust. 2, stanowi akt założycielski ośmioletniej szkoły podstawowej w rozumieniu przepisów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Do ośmioletniej szkoły podstawowej, o której mowa w ust. 1, przepisy art. 118, art. 119, art. 129 ust. 8–12 i art. 176–181 stosuje się odpowiedn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5F4-C8C5-4BD6-88DD-788043ADEB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CECA-2278-42CD-9348-170B39E156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E21-B0BD-46B8-A6A2-63E4817644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92. 1. W roku szkolnym 2017/2018 zajęcia z zakresu doradztwa zawodowego, o których mowa w art. 109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st. 1 pkt 7 ustawy – Prawo oświatowe, są realizowane w oparciu o program przygotowany przez nauczyciela realizującego te zajęcia i dopuszczony do użytku przez dyrektora szkoły, po zasięgnięciu opinii rady pedagogiczn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Program, o którym mowa w ust. 1, zawiera treści dotyczące informacji o zawodach, kwalifikacjach i stanowiskach pracy oraz możliwościach uzyskania kwalifikacji zgodnych z potrzebami rynku pracy i predyspozycjami zawodow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7C5-8206-456C-B6B7-2D5A5B553B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N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0. 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  Dyrektor szkoły w raz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 całkowitej likwidacji szkoły rozwiązuje z nauczycielem stosunek pra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 częściowej likwidacji szkoły albo w razie zmian organizacyjnych powodujących zmniejszenie liczby oddziałów w szkole lub zmian planu nauczania uniemożliwiających dalsze zatrudnianie nauczyciela w pełnym wymiarze zajęć rozwiązuje z nim stosunek pracy lub, na wniosek nauczyciela, przenosi go w stan nieczynny. Nauczyciel zatrudniony na podstawie mianowania może wyrazić zgodę na ograniczenie zatrudnienia w trybie określonym w art. 22 ust.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c.  Wypowiedzenie jest bezskuteczne w przypadku złożenia przez nauczyciela, w terminie do 30 dni od dnia doręczenia wypowiedzenia stosunku pracy z przyczyn określonych w ust. 1 pkt 2, pisemnego wniosku o przeniesienie w stan nieczynny. Z upływem sześciomiesięcznego okresu pozostawania w stanie nieczynnym stosunek pracy wygasa. Wygaśnięcie stosunku pracy powoduje dla nauczyciela skutki, jakie przepisy prawa wiążą z rozwiązaniem stosunku pracy z przyczyn dotyczących zakładu pracy w zakresie świadczeń przedemerytal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26. 1. W roku szkolnym 2018/2019 z nauczycielami gimnazjów prowadzonych przez jednostkę samorządu terytorialneg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trudnionymi na podstawie mianowania lub umowy o pracę na czas nieokreślony, których dalsze zatrudnienie nie jest możliwe ze względu na zmiany organizacyjne powodujące wygaszenie kształcenia w gimnazjum, rozwiązu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ę stosunek p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Dyrektor gimnazjum, o którym mowa w ust. 1, rozwiązuje z nauczycielem stosunek pracy z końcem roku szkolnego, po uprzednim trzymiesięcznym wypowiedzen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Nauczycielowi gimnazjum, o którym mowa w ust. 1, zatrudnionemu na podstawie mianowania, z którym rozwiązano stosunek pracy z przyczyn określonych w ust. 1, przysługuje odprawa w wysokości sześciomiesięcznego wynagrodze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sadniczego. Nauczycielowi gimnazjum zatrudnionemu na podstawie umowy o pracę na czas nieokreślony, z którym rozwiązano stosunek pracy z przyczyn określonych w ust. 1, przysługują świadczenia określone w przepisach o szczególnych zasadach rozwiązywania z pracownikami stosunków pracy z przyczyn niedotyczących pracownik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CA9-7177-45A3-9C1E-9E054EB3FB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224. 1. W okresie do dnia 31 sierpnia 2023 r. dyrektor szkoły prowadzonej przez jednostkę samorządu terytorialn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ormuje kuratora oświaty sprawującego nadzór pedagogiczny nad szkołą o wolnych stanowiskach pracy d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uczycie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Informacje, o których mowa w ust. 1, kurator oświaty udostępnia na stronie podmiotowej kuratorium oświa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W okresie do dnia 31 sierpnia 2020 r. pierwszeństwo w zatrudnieniu na wolnych stanowiskach pracy dla nauczycieli w szkołach prowadzonych przez jednostki samorządu terytorialnego przysługu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nauczycielom przeniesionym w stan nieczynny, nauczycielom, którzy otrzymali informację o przeniesieniu ich w stan nieczynny z początkiem kolejnego roku szkolnego, oraz nauczycielom, którzy złożyli wniosek o przeniesienie w stan nieczynny w trybie art. 20 ust. 5c ustawy – Karta Nauczyciel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nauczycielom, z którymi rozwiązano stosunek pracy w trybie art. 226 ust. 2, z dniem wypowiedzenia im stosunku p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E1D-3C63-41E8-8089-DDDF0E2C46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KN Art. 85w. 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  Minister właściwy do spraw oświaty i wychowania prowadzi centralny rejestr orzeczeń dyscyplinarnych, zwany dalej „rejestrem”, w którym gromadzi się informacje o nauczycielach prawomocnie ukaranych karami dyscyplinarnymi, o których mowa w art. 76 ust. 1 pkt 3 i 4, oraz informacje o zawieszeniu nauczyciela w pełnieniu obowiązków, o którym mowa w art. 85t ust. 1-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Rejestr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dane identyfikujące nauczyciela - nazwisko, imię lub imiona, płeć, datę i miejsce urodzenia, imiona rodziców, obywatelstwo lub obywatelstwa, miejsce zamieszkania, numer PESEL, a w przypadku braku tego numeru - numer i serię dokumentu potwierdzającego tożsamoś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rodzaj orzeczonej kary dyscyplinarnej, o której mowa w art. 76 ust. 1 pkt 3 albo 4, oraz okres ukar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oznaczenie komisji dyscyplinarnej, która wydała prawomocne orzeczenie o ukaraniu karą dyscyplinarną, oraz sygnaturę akt spraw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datę wydania oraz uprawomocnienia się orzeczenia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datę i miejsce popełnienia czynu, którego dotyczy orzeczenie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datę doręczenia nauczycielowi orzeczenia, o którym mowa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informację o zawieszeniu nauczyciela w pełnieniu obowiązków oraz o okresie zawiesze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Rejestr prowadzi się w systemie teleinformatyczny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ister właściwy do spraw oświaty i wychowania jest administratorem danych zgromadzonych w rejestrze w rozumieniu art. 7 pkt 4 ustawy z dnia 29 sierpnia 1997 r. o ochronie danych osobow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Do wprowadzania danych do rejestru, dokonywania zmian danych w rejestrze oraz usuwania danych z rejestru są uprawnione wyłącznie osoby upoważnione przez ministra właściwego do spraw oświaty i wychow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76E3-3958-4734-A0E8-9CCF33A9342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211. 1. W przypadku niepodjęcia uchwały, o której mowa w art. 210, w terminie do dnia 31 marca 2017 r.,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uchwały podjęte na podstawie art. 17 ust. 4 ustawy zmienianej w art. 15, w brzmieniu dotychczasowym, pozostają w moc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W przypadku, o którym mowa w ust. 1, organ wykonawczy jednostki samorządu terytorialnego opracowu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 podaje do publicznej wiadomości informację w sprawie planu sieci szkół podstawowych i gimnazjów, jaki będzie obowiązywał od dnia 1 września 2017 r., z uwzględnieniem zmian w sieci szkół, które nastąpią z mocy praw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. W przypadku niepodjęcia uchwały, o której mowa w art. 210, ustalenia obwodów lub zmiany obwodów szkół podstawowych prowadzonych przez osoby prawne niebędące jednostkami samorządu terytorialnego lub osoby fizyczne dokonuje się na rok szkolny 2018/2019 i lata następn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. W przypadku niepodjęcia uchwały, o której mowa w art. 210, do przekształcenia dotychczasowego gimnazjum alb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łączenia dotychczasowego gimnazjum do szkoły innego typu stosuje się przepisy art. 89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5. W przypadku, o którym mowa w ust. 1, do zmiany uchwały podjętej na podstawie art. 17 ust. 4 ustawy zmieniane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 art. 15, w brzmieniu dotychczasowym, albo do ustalenia planu sieci publicznych szkół podstawowych na rok szkol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017/2018 i lata następne stosuje się przepisy art. 39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F37-F0B2-41EA-BDF9-3590EF0032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117. 1. Z dniem 1 września 2017 r. dotychczasowa sześcioletnia szkoła podstawowa staje się ośmioletnią szkołą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odstawową, o której mowa w art. 18 ust. 1 pkt 1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Z dniem 1 września 2017 r. dotychczasowa szkoła podstawowa obejmująca strukturą organizacyjną część klas sześcioletniej szkoły podstawowej staje się ośmioletnią szkołą podstawową obejmującą strukturą organizacyjną te same klasy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. Z dniem 1 września 2017 r. szkoła filialna podporządkowana organizacyjnie dotychczasowej sześcioletniej szko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odstawowej staje się szkołą filialną podporządkowaną organizacyjnie ośmioletniej szkole podstawowej, obejmując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trukturą organizacyjną te same klasy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. Organ stanowiący jednostki samorządu terytorialnego prowadzącej dotychczasową sześcioletnią szkołę podstawową, w terminie do dnia 30 listopada 2017 r., w drodze uchwały, stwierdza jej przekształcenie w ośmioletnią szkołę podstawową zgodnie z ust. 1 lub 2. Przekształcenie szkoły filialnej zgodnie z ust. 3 stwierdza się w uchwale, o której mowa w zdaniu pierwszym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5. Uchwała, o której mowa w ust. 4, stanowi akt założycielski ośmioletniej szkoły podstawowej w rozumieniu przepisów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. Organ stanowiący jednostki samorządu terytorialnego albo osoba prawna niebędąca jednostką samorządu terytorialnego lub osoba fizyczna prowadzące publiczną szkołę podstawową obejmującą część klas szkoły podstawowej może postanowić o zwiększeniu liczby klas objętych strukturą organizacyjną ośmioletniej szkoły podstawowej obejmującej część klas szkoły podstawow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7. Organ stanowiący jednostki samorządu terytorialnego albo osoba prawna niebędąca jednostką samorządu terytorialnego lub osoba fizyczna prowadząca publiczną szkołę podstawową, której organizacyjnie jest podporządkowana szkoła filialna, może postanowić o zwiększeniu liczby klas objętych strukturą organizacyjną szkoły filialnej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Art. 118. 1. Z dniem 1 września 2017 r. uczniowie klas I–VI dotychczasowej sześcioletniej szkoły podstawowej stają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ię uczniami odpowiednich klas ośmioletniej szkoły podstawowej, o której mowa w art. 18 ust. 1 pkt 1 ustawy – Prawo oświatow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. W roku szkolnym 2016/2017 uczniowie klasy VI dotychczasowej sześcioletniej szkoły podstawowej podlegaj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mocji do klasy VII szkoły podstawowej, o której mowa w art. 18 ust. 1 pkt 1 ustawy – Prawo oświatowe, zgod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z przepisami rozdziału 3a ustawy zmienianej w art. 15, w brzmieniu nadanym niniejszą ustaw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2259-B2B2-4025-9FE0-342C5EACB3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Art. 129. 1. Dotychczasowe gimnazjum moż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przekształcić w ośmioletnią szkołę podstawową, o której mowa w art. 18 ust. 1 pkt 1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włączyć do ośmioletniej szkoły podstawowej, o której mowa w art. 18 ust. 1 pkt 1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Rozpoczęcie działalności przez szkołę utworzoną zgodnie z ust. 1 może nastąpić z dniem 1 września 2017 r., z dniem 1 września 2018 r. albo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Dotychczasowe gimnazjum moż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przekształcić w trzyletnie liceum ogólnokształcące, o którym mowa w art. 9 ust. 1 pkt 3 lit. b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przekształcić w czteroletnie technikum, o którym mowa w art. 9 ust. 1 pkt 3 lit. c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włączyć do trzyletniego liceum ogólnokształcącego, o którym mowa w art. 9 ust. 1 pkt 3 lit. b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włączyć do czteroletniego technikum, o którym mowa w art. 9 ust. 1 pkt 3 lit. c ustawy zmienianej w art. 15, w brzmieniu dotychczasowy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przekształcić w czteroletnie liceum ogólnokształcące, o którym mowa w art. 18 ust. 1 pkt 2 lit. a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przekształcić w pięcioletnie technikum, o którym mowa w art. 18 ust. 1 pkt 2 lit. b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włączyć do czteroletniego liceum ogólnokształcącego, o którym mowa w art. 18 ust. 1 pkt 2 lit. a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włączyć do pięcioletniego technikum, o którym mowa w art. 18 ust. 1 pkt 2 lit. b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przekształcić w branżową szkołę I stopnia, o której mowa w art. 18 ust. 1 pkt 2 lit. c ustawy – Prawo oświatow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włączyć do branżowej szkoły I stopnia, o której mowa w art. 18 ust. 1 pkt 2 lit. c ustawy – Prawo oświatow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Rozpoczęcie działalności przez szkołę utworzoną zgodnie z ust. 3 pkt 1–4, może nastąpić z dniem 1 września 2017 r. albo z dniem 1 września 2018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Rozpoczęcie działalności przez szkołę utworzoną zgodnie z ust. 3 pkt 5–8, może nastąpić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. Rozpoczęcie działalności przez szkołę utworzoną zgodnie z ust. 3 pkt 9 i 10, może nastąpić z dniem 1 wrześ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017 r., z dniem 1 września 2018 r. albo z dniem 1 września 2019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 Dzień rozpoczęcia działalności przez szkołę, o którym mowa w ust. 2 i 4–6, uznaje się za dzień odpowiednio przekształcenia, o którym mowa w ust. 1 pkt 1 i ust. 3 pkt 1, 2, 5, 6 i 9, albo włączenia, o którym mowa w ust. 1 pkt 2 i ust. 3 pkt 3, 4, 7, 8 i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. W roku szkolnym odpowiednio 2017/2018 i 2018/2019 w szkole utworzonej zgodnie z ust. 1 i ust. 3 pkt 1–4, 9 i 10, prowadzi się klasy dotychczasowego gimnazjum, aż do czasu likwidacji tych klas zgodnie z art. 1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. Do klas, o których mowa w ust. 8, stosuje się dotychczasowe przepisy dotyczące gimnazj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. Uczniowie klas, o których mowa w ust. 8, otrzymują świadectwa ustalone dla dotychczasowych gimnazjów, opatrzone pieczęcią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. Uczniowie klas, o których mowa w ust. 8, otrzymują świadectwa ustalone dla dotychczasowych gimnazjów, opatr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eczęcią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 W roku szkolnym odpowiednio 2017/2018 i 2018/2019 dla klas, o których mowa w ust. 8, zachowuje się obwó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stalony dla dotychczasowego publicznego gimnazj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2. Organ stanowiący jednostki samorządu terytorialnego może zmienić obwód, o którym mowa w ust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klas, o których mowa w ust. 8, w publicznych szkołach prowadzonych przez osobę prawną niebędącą jednostk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orządu terytorialnego lub osobę fizyczną zmiana obwodu, o którym mowa w ust. 11, następuje w uzgodnien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tą osobą. Przepisy art. 17 ust. 2 i 3 ustawy zmienianej w art. 15, w brzmieniu dotychczasowym, 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 Dotychczasowe trzyletnie liceum ogólnokształcące albo dotychczasowe czteroletnie technikum, utworzone zgod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ust. 3 pkt 1–4, z dniem 1 września 2019 r. staje się odpowiednio czteroletnim liceum ogólnokształcącym albo pięcioletn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chnikum. Przepisy art. 146 ust. 2–4, art. 147–150, art. 152 ust. 2–4, art. 153–160, art. 184 ust. 2–4 i art. 185–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. W przypadku publicznej szkoły tworzonej zgodnie z ust. 1 i ust. 3 pkt 1–4 oraz pkt 9 i 10, która rozpoczyna działalnoś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dniem 1 września 2017 r., przepisów art. 59 ustawy zmienianej w art. 15, w brzmieniu dotychczasowym, 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5. W przypadku publicznej szkoły tworzonej zgodnie z ust. 1 i 3, która rozpoczyna działalność odpowiednio z dn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rześnia 2018 r. albo z dniem 1 września 2019 r., przepisów art. 89 ustawy – Prawo oświatowe nie stosuje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6. W przypadkach, o których mowa w ust. 1 pkt 2 i ust. 3 pkt 3, 4, 7, 8 i 10, za dzień zakończenia działalności dotychczasow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imnazjum uznaje się dzień 31 sierpnia roku, w którym następuje włączenie dotychczasowego gimnazj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odpowiednio ośmioletniej szkoły podstawowej, dotychczasowego trzyletniego liceum ogólnokształcącego, dotychczasow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teroletniego technikum, czteroletniego liceum ogólnokształcącego, pięcioletniego technikum lub branżow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zkoły I stop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7. W wyniku przekształcenia, o którym mowa w ust. 1 pkt 1, powstaje ośmioletnia szkoła podstawowa o pełn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ukturze organizacyjnej, której nie jest organizacyjnie podporządkowana szkoła filial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84D4-C9CB-4265-946F-0F27052861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FAE-D3C0-4D79-B965-13CC3A36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904-F311-436D-8CFB-F6A24B9A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D1D-58CC-425C-A6F2-3BC50085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710-2D75-4F1D-81A4-36694DAB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D5E-BE74-45A7-9D82-975FE19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BC0-2381-4F68-9127-4C512B8E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30F-B2C9-4824-9036-0513C545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8D0-115F-449D-869B-93C6FAF4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E99-C010-409E-AB87-24A8CA93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282-1D8D-4E82-8037-76244C5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6DB-3E02-45BA-BC51-9BAB2C5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701-C4E8-4745-B9D2-405235FE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519-9531-4549-9FBA-43E44BF1C6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:\Kopie innych pracownikow\1 konferencje i spotkania\2016.08.24 konferencje sierpniowe\tmp\KO gdansk.png"/>
          <p:cNvPicPr/>
          <p:nvPr/>
        </p:nvPicPr>
        <p:blipFill>
          <a:blip r:embed="rId1"/>
          <a:stretch/>
        </p:blipFill>
        <p:spPr>
          <a:xfrm>
            <a:off x="0" y="765000"/>
            <a:ext cx="8879040" cy="140976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2"/>
          <p:cNvSpPr/>
          <p:nvPr/>
        </p:nvSpPr>
        <p:spPr>
          <a:xfrm>
            <a:off x="971640" y="3068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Wdrażanie reformy eduk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3"/>
          <p:cNvSpPr/>
          <p:nvPr/>
        </p:nvSpPr>
        <p:spPr>
          <a:xfrm>
            <a:off x="759636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j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le tekstowe 1"/>
          <p:cNvSpPr/>
          <p:nvPr/>
        </p:nvSpPr>
        <p:spPr>
          <a:xfrm>
            <a:off x="2124000" y="1844640"/>
            <a:ext cx="475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sadnicza szkoła zawod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2"/>
          <p:cNvSpPr/>
          <p:nvPr/>
        </p:nvSpPr>
        <p:spPr>
          <a:xfrm>
            <a:off x="2124000" y="3573360"/>
            <a:ext cx="4751640" cy="459720"/>
          </a:xfrm>
          <a:prstGeom prst="rect">
            <a:avLst/>
          </a:prstGeom>
          <a:solidFill>
            <a:srgbClr val="ccc1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anżowa szkoła 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Łącznik prosty ze strzałką 3"/>
          <p:cNvCxnSpPr>
            <a:stCxn id="95" idx="2"/>
            <a:endCxn id="96" idx="0"/>
          </p:cNvCxnSpPr>
          <p:nvPr/>
        </p:nvCxnSpPr>
        <p:spPr>
          <a:xfrm>
            <a:off x="4500360" y="2306160"/>
            <a:ext cx="1080" cy="12675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8" name="pole tekstowe 6"/>
          <p:cNvSpPr/>
          <p:nvPr/>
        </p:nvSpPr>
        <p:spPr>
          <a:xfrm>
            <a:off x="1042920" y="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10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le tekstowe 1"/>
          <p:cNvSpPr/>
          <p:nvPr/>
        </p:nvSpPr>
        <p:spPr>
          <a:xfrm>
            <a:off x="1835280" y="1773360"/>
            <a:ext cx="5545080" cy="459720"/>
          </a:xfrm>
          <a:prstGeom prst="rec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Zespół szkó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2700360" y="3789360"/>
            <a:ext cx="3816360" cy="825480"/>
          </a:xfrm>
          <a:prstGeom prst="rect">
            <a:avLst/>
          </a:prstGeom>
          <a:solidFill>
            <a:srgbClr val="92d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śm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ole tekstowe 6"/>
          <p:cNvSpPr/>
          <p:nvPr/>
        </p:nvSpPr>
        <p:spPr>
          <a:xfrm>
            <a:off x="1835280" y="2276640"/>
            <a:ext cx="273672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Szkoła podstaw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ole tekstowe 7"/>
          <p:cNvSpPr/>
          <p:nvPr/>
        </p:nvSpPr>
        <p:spPr>
          <a:xfrm>
            <a:off x="4643280" y="2276640"/>
            <a:ext cx="2737080" cy="398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Gimnazj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Łącznik prosty ze strzałką 9"/>
          <p:cNvCxnSpPr>
            <a:stCxn id="100" idx="2"/>
            <a:endCxn id="101" idx="0"/>
          </p:cNvCxnSpPr>
          <p:nvPr/>
        </p:nvCxnSpPr>
        <p:spPr>
          <a:xfrm>
            <a:off x="4608000" y="2234880"/>
            <a:ext cx="1080" cy="1554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pole tekstowe 8"/>
          <p:cNvSpPr/>
          <p:nvPr/>
        </p:nvSpPr>
        <p:spPr>
          <a:xfrm>
            <a:off x="1042920" y="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ole tekstowe 10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rostokąt 47"/>
          <p:cNvSpPr/>
          <p:nvPr/>
        </p:nvSpPr>
        <p:spPr>
          <a:xfrm>
            <a:off x="611280" y="6093000"/>
            <a:ext cx="7921440" cy="502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46"/>
          <p:cNvSpPr/>
          <p:nvPr/>
        </p:nvSpPr>
        <p:spPr>
          <a:xfrm>
            <a:off x="611280" y="5184720"/>
            <a:ext cx="7921440" cy="7635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45"/>
          <p:cNvSpPr/>
          <p:nvPr/>
        </p:nvSpPr>
        <p:spPr>
          <a:xfrm>
            <a:off x="611280" y="4221000"/>
            <a:ext cx="7921440" cy="7923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44"/>
          <p:cNvSpPr/>
          <p:nvPr/>
        </p:nvSpPr>
        <p:spPr>
          <a:xfrm>
            <a:off x="611280" y="328464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43"/>
          <p:cNvSpPr/>
          <p:nvPr/>
        </p:nvSpPr>
        <p:spPr>
          <a:xfrm>
            <a:off x="611280" y="2421000"/>
            <a:ext cx="7921440" cy="718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2"/>
          <p:cNvSpPr/>
          <p:nvPr/>
        </p:nvSpPr>
        <p:spPr>
          <a:xfrm>
            <a:off x="611280" y="1557360"/>
            <a:ext cx="7921440" cy="7207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41"/>
          <p:cNvSpPr/>
          <p:nvPr/>
        </p:nvSpPr>
        <p:spPr>
          <a:xfrm>
            <a:off x="611280" y="620640"/>
            <a:ext cx="7921440" cy="720720"/>
          </a:xfrm>
          <a:prstGeom prst="rect">
            <a:avLst/>
          </a:prstGeom>
          <a:solidFill>
            <a:srgbClr val="d7e4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ole tekstowe 1"/>
          <p:cNvSpPr/>
          <p:nvPr/>
        </p:nvSpPr>
        <p:spPr>
          <a:xfrm>
            <a:off x="2916360" y="79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6 I-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2916360" y="1701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3"/>
          <p:cNvSpPr/>
          <p:nvPr/>
        </p:nvSpPr>
        <p:spPr>
          <a:xfrm>
            <a:off x="2916360" y="2583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755640" y="7794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6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755640" y="170172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7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6"/>
          <p:cNvSpPr/>
          <p:nvPr/>
        </p:nvSpPr>
        <p:spPr>
          <a:xfrm>
            <a:off x="755640" y="25671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8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7"/>
          <p:cNvSpPr/>
          <p:nvPr/>
        </p:nvSpPr>
        <p:spPr>
          <a:xfrm>
            <a:off x="755640" y="34704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9/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ole tekstowe 8"/>
          <p:cNvSpPr/>
          <p:nvPr/>
        </p:nvSpPr>
        <p:spPr>
          <a:xfrm>
            <a:off x="4929120" y="819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9"/>
          <p:cNvSpPr/>
          <p:nvPr/>
        </p:nvSpPr>
        <p:spPr>
          <a:xfrm>
            <a:off x="4913280" y="1701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G 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10"/>
          <p:cNvSpPr/>
          <p:nvPr/>
        </p:nvSpPr>
        <p:spPr>
          <a:xfrm>
            <a:off x="4929120" y="2583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G 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1"/>
          <p:cNvSpPr/>
          <p:nvPr/>
        </p:nvSpPr>
        <p:spPr>
          <a:xfrm>
            <a:off x="7023240" y="8222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12"/>
          <p:cNvSpPr/>
          <p:nvPr/>
        </p:nvSpPr>
        <p:spPr>
          <a:xfrm>
            <a:off x="7020000" y="17049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 3 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ole tekstowe 13"/>
          <p:cNvSpPr/>
          <p:nvPr/>
        </p:nvSpPr>
        <p:spPr>
          <a:xfrm>
            <a:off x="7020000" y="2556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Łącznik prosty ze strzałką 15"/>
          <p:cNvCxnSpPr>
            <a:stCxn id="121" idx="3"/>
            <a:endCxn id="125" idx="1"/>
          </p:cNvCxnSpPr>
          <p:nvPr/>
        </p:nvCxnSpPr>
        <p:spPr>
          <a:xfrm>
            <a:off x="6297120" y="1002960"/>
            <a:ext cx="723240" cy="886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8" name="Łącznik prosty ze strzałką 17"/>
          <p:cNvCxnSpPr>
            <a:stCxn id="122" idx="3"/>
            <a:endCxn id="126" idx="1"/>
          </p:cNvCxnSpPr>
          <p:nvPr/>
        </p:nvCxnSpPr>
        <p:spPr>
          <a:xfrm>
            <a:off x="6281280" y="1886040"/>
            <a:ext cx="739080" cy="854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pole tekstowe 18"/>
          <p:cNvSpPr/>
          <p:nvPr/>
        </p:nvSpPr>
        <p:spPr>
          <a:xfrm>
            <a:off x="7062840" y="335592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Łącznik prosty ze strzałką 20"/>
          <p:cNvCxnSpPr>
            <a:stCxn id="123" idx="3"/>
          </p:cNvCxnSpPr>
          <p:nvPr/>
        </p:nvCxnSpPr>
        <p:spPr>
          <a:xfrm>
            <a:off x="6297480" y="2766960"/>
            <a:ext cx="796320" cy="807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Łącznik prosty ze strzałką 22"/>
          <p:cNvCxnSpPr>
            <a:stCxn id="116" idx="3"/>
          </p:cNvCxnSpPr>
          <p:nvPr/>
        </p:nvCxnSpPr>
        <p:spPr>
          <a:xfrm>
            <a:off x="4284360" y="2766960"/>
            <a:ext cx="2809080" cy="10944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pole tekstowe 25"/>
          <p:cNvSpPr/>
          <p:nvPr/>
        </p:nvSpPr>
        <p:spPr>
          <a:xfrm>
            <a:off x="2916360" y="34574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26"/>
          <p:cNvSpPr/>
          <p:nvPr/>
        </p:nvSpPr>
        <p:spPr>
          <a:xfrm>
            <a:off x="7062840" y="429264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ole tekstowe 27"/>
          <p:cNvSpPr/>
          <p:nvPr/>
        </p:nvSpPr>
        <p:spPr>
          <a:xfrm>
            <a:off x="7062840" y="522936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LO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ole tekstowe 28"/>
          <p:cNvSpPr/>
          <p:nvPr/>
        </p:nvSpPr>
        <p:spPr>
          <a:xfrm>
            <a:off x="7077240" y="6164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 4  I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Łącznik prosty ze strzałką 30"/>
          <p:cNvCxnSpPr>
            <a:stCxn id="132" idx="3"/>
          </p:cNvCxnSpPr>
          <p:nvPr/>
        </p:nvCxnSpPr>
        <p:spPr>
          <a:xfrm>
            <a:off x="4284360" y="3642840"/>
            <a:ext cx="2778840" cy="11181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7" name="pole tekstowe 31"/>
          <p:cNvSpPr/>
          <p:nvPr/>
        </p:nvSpPr>
        <p:spPr>
          <a:xfrm>
            <a:off x="2916360" y="44244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Łącznik prosty ze strzałką 33"/>
          <p:cNvCxnSpPr>
            <a:stCxn id="137" idx="3"/>
          </p:cNvCxnSpPr>
          <p:nvPr/>
        </p:nvCxnSpPr>
        <p:spPr>
          <a:xfrm>
            <a:off x="4284360" y="4608360"/>
            <a:ext cx="2778840" cy="11311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9" name="pole tekstowe 34"/>
          <p:cNvSpPr/>
          <p:nvPr/>
        </p:nvSpPr>
        <p:spPr>
          <a:xfrm>
            <a:off x="2916360" y="53467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Łącznik prosty ze strzałką 36"/>
          <p:cNvCxnSpPr>
            <a:stCxn id="139" idx="3"/>
            <a:endCxn id="135" idx="1"/>
          </p:cNvCxnSpPr>
          <p:nvPr/>
        </p:nvCxnSpPr>
        <p:spPr>
          <a:xfrm>
            <a:off x="4284360" y="5530680"/>
            <a:ext cx="2793240" cy="8200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1" name="pole tekstowe 37"/>
          <p:cNvSpPr/>
          <p:nvPr/>
        </p:nvSpPr>
        <p:spPr>
          <a:xfrm>
            <a:off x="746280" y="4437000"/>
            <a:ext cx="129672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38"/>
          <p:cNvSpPr/>
          <p:nvPr/>
        </p:nvSpPr>
        <p:spPr>
          <a:xfrm>
            <a:off x="755640" y="534348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1/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39"/>
          <p:cNvSpPr/>
          <p:nvPr/>
        </p:nvSpPr>
        <p:spPr>
          <a:xfrm>
            <a:off x="154764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bieg rekrutacji – lic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49"/>
          <p:cNvSpPr/>
          <p:nvPr/>
        </p:nvSpPr>
        <p:spPr>
          <a:xfrm>
            <a:off x="2957400" y="6164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50"/>
          <p:cNvSpPr/>
          <p:nvPr/>
        </p:nvSpPr>
        <p:spPr>
          <a:xfrm>
            <a:off x="768240" y="6164280"/>
            <a:ext cx="129564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2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rostokąt 46"/>
          <p:cNvSpPr/>
          <p:nvPr/>
        </p:nvSpPr>
        <p:spPr>
          <a:xfrm>
            <a:off x="611280" y="5329080"/>
            <a:ext cx="7921440" cy="76392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rostokąt 45"/>
          <p:cNvSpPr/>
          <p:nvPr/>
        </p:nvSpPr>
        <p:spPr>
          <a:xfrm>
            <a:off x="611280" y="436572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44"/>
          <p:cNvSpPr/>
          <p:nvPr/>
        </p:nvSpPr>
        <p:spPr>
          <a:xfrm>
            <a:off x="611280" y="342900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43"/>
          <p:cNvSpPr/>
          <p:nvPr/>
        </p:nvSpPr>
        <p:spPr>
          <a:xfrm>
            <a:off x="611280" y="2492280"/>
            <a:ext cx="7921440" cy="79236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42"/>
          <p:cNvSpPr/>
          <p:nvPr/>
        </p:nvSpPr>
        <p:spPr>
          <a:xfrm>
            <a:off x="611280" y="1557360"/>
            <a:ext cx="7921440" cy="792000"/>
          </a:xfrm>
          <a:prstGeom prst="rect">
            <a:avLst/>
          </a:prstGeom>
          <a:solidFill>
            <a:srgbClr val="dce6f2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1"/>
          <p:cNvSpPr/>
          <p:nvPr/>
        </p:nvSpPr>
        <p:spPr>
          <a:xfrm>
            <a:off x="611280" y="620640"/>
            <a:ext cx="7921440" cy="720720"/>
          </a:xfrm>
          <a:prstGeom prst="rect">
            <a:avLst/>
          </a:prstGeom>
          <a:solidFill>
            <a:srgbClr val="d7e4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1"/>
          <p:cNvSpPr/>
          <p:nvPr/>
        </p:nvSpPr>
        <p:spPr>
          <a:xfrm>
            <a:off x="2916360" y="79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6 I-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ole tekstowe 2"/>
          <p:cNvSpPr/>
          <p:nvPr/>
        </p:nvSpPr>
        <p:spPr>
          <a:xfrm>
            <a:off x="2916360" y="17733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2916360" y="2708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755640" y="76500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6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ole tekstowe 5"/>
          <p:cNvSpPr/>
          <p:nvPr/>
        </p:nvSpPr>
        <p:spPr>
          <a:xfrm>
            <a:off x="755640" y="17733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7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6"/>
          <p:cNvSpPr/>
          <p:nvPr/>
        </p:nvSpPr>
        <p:spPr>
          <a:xfrm>
            <a:off x="755640" y="270828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8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755640" y="361476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19/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8"/>
          <p:cNvSpPr/>
          <p:nvPr/>
        </p:nvSpPr>
        <p:spPr>
          <a:xfrm>
            <a:off x="4929120" y="819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9"/>
          <p:cNvSpPr/>
          <p:nvPr/>
        </p:nvSpPr>
        <p:spPr>
          <a:xfrm>
            <a:off x="4932360" y="17733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10"/>
          <p:cNvSpPr/>
          <p:nvPr/>
        </p:nvSpPr>
        <p:spPr>
          <a:xfrm>
            <a:off x="4932360" y="270828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 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11"/>
          <p:cNvSpPr/>
          <p:nvPr/>
        </p:nvSpPr>
        <p:spPr>
          <a:xfrm>
            <a:off x="7023240" y="83664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SZ 3 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12"/>
          <p:cNvSpPr/>
          <p:nvPr/>
        </p:nvSpPr>
        <p:spPr>
          <a:xfrm>
            <a:off x="7029360" y="162864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SZ 3 I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13"/>
          <p:cNvSpPr/>
          <p:nvPr/>
        </p:nvSpPr>
        <p:spPr>
          <a:xfrm>
            <a:off x="7020000" y="2565360"/>
            <a:ext cx="1368360" cy="6426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SZ 3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Łącznik prosty ze strzałką 15"/>
          <p:cNvCxnSpPr>
            <a:stCxn id="159" idx="3"/>
          </p:cNvCxnSpPr>
          <p:nvPr/>
        </p:nvCxnSpPr>
        <p:spPr>
          <a:xfrm>
            <a:off x="6297120" y="1003320"/>
            <a:ext cx="723240" cy="1131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6" name="Łącznik prosty ze strzałką 17"/>
          <p:cNvCxnSpPr>
            <a:stCxn id="160" idx="3"/>
          </p:cNvCxnSpPr>
          <p:nvPr/>
        </p:nvCxnSpPr>
        <p:spPr>
          <a:xfrm>
            <a:off x="6300720" y="1956960"/>
            <a:ext cx="720000" cy="1112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7" name="pole tekstowe 18"/>
          <p:cNvSpPr/>
          <p:nvPr/>
        </p:nvSpPr>
        <p:spPr>
          <a:xfrm>
            <a:off x="7032600" y="359424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3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Łącznik prosty ze strzałką 20"/>
          <p:cNvCxnSpPr>
            <a:stCxn id="161" idx="3"/>
            <a:endCxn id="167" idx="1"/>
          </p:cNvCxnSpPr>
          <p:nvPr/>
        </p:nvCxnSpPr>
        <p:spPr>
          <a:xfrm>
            <a:off x="6300360" y="2894040"/>
            <a:ext cx="732600" cy="8848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Łącznik prosty ze strzałką 22"/>
          <p:cNvCxnSpPr>
            <a:stCxn id="154" idx="3"/>
            <a:endCxn id="167" idx="1"/>
          </p:cNvCxnSpPr>
          <p:nvPr/>
        </p:nvCxnSpPr>
        <p:spPr>
          <a:xfrm>
            <a:off x="4284360" y="2894040"/>
            <a:ext cx="2748600" cy="8848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70" name="pole tekstowe 25"/>
          <p:cNvSpPr/>
          <p:nvPr/>
        </p:nvSpPr>
        <p:spPr>
          <a:xfrm>
            <a:off x="2916360" y="357192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26"/>
          <p:cNvSpPr/>
          <p:nvPr/>
        </p:nvSpPr>
        <p:spPr>
          <a:xfrm>
            <a:off x="7032600" y="455148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2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7"/>
          <p:cNvSpPr/>
          <p:nvPr/>
        </p:nvSpPr>
        <p:spPr>
          <a:xfrm>
            <a:off x="7032600" y="5497560"/>
            <a:ext cx="1368360" cy="368280"/>
          </a:xfrm>
          <a:prstGeom prst="rect">
            <a:avLst/>
          </a:prstGeom>
          <a:solidFill>
            <a:srgbClr val="ccc1da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S 2 I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31"/>
          <p:cNvSpPr/>
          <p:nvPr/>
        </p:nvSpPr>
        <p:spPr>
          <a:xfrm>
            <a:off x="2916360" y="457200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34"/>
          <p:cNvSpPr/>
          <p:nvPr/>
        </p:nvSpPr>
        <p:spPr>
          <a:xfrm>
            <a:off x="2916360" y="5497560"/>
            <a:ext cx="136836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P 8 I-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37"/>
          <p:cNvSpPr/>
          <p:nvPr/>
        </p:nvSpPr>
        <p:spPr>
          <a:xfrm>
            <a:off x="755640" y="456084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38"/>
          <p:cNvSpPr/>
          <p:nvPr/>
        </p:nvSpPr>
        <p:spPr>
          <a:xfrm>
            <a:off x="755640" y="5508720"/>
            <a:ext cx="1295280" cy="36828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021/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39"/>
          <p:cNvSpPr/>
          <p:nvPr/>
        </p:nvSpPr>
        <p:spPr>
          <a:xfrm>
            <a:off x="154764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bieg rekrutacji – branżowa 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Łącznik prosty ze strzałką 48"/>
          <p:cNvCxnSpPr>
            <a:stCxn id="167" idx="2"/>
            <a:endCxn id="171" idx="0"/>
          </p:cNvCxnSpPr>
          <p:nvPr/>
        </p:nvCxnSpPr>
        <p:spPr>
          <a:xfrm>
            <a:off x="7716600" y="3962520"/>
            <a:ext cx="1080" cy="589680"/>
          </a:xfrm>
          <a:prstGeom prst="straightConnector1">
            <a:avLst/>
          </a:prstGeom>
          <a:ln w="38160">
            <a:solidFill>
              <a:srgbClr val="0d0d0d"/>
            </a:solidFill>
            <a:prstDash val="sysDash"/>
            <a:miter/>
            <a:tailEnd len="med" type="triangle" w="med"/>
          </a:ln>
        </p:spPr>
      </p:cxnSp>
      <p:cxnSp>
        <p:nvCxnSpPr>
          <p:cNvPr id="179" name="Łącznik prosty ze strzałką 52"/>
          <p:cNvCxnSpPr>
            <a:stCxn id="171" idx="2"/>
            <a:endCxn id="172" idx="0"/>
          </p:cNvCxnSpPr>
          <p:nvPr/>
        </p:nvCxnSpPr>
        <p:spPr>
          <a:xfrm>
            <a:off x="7716600" y="4920840"/>
            <a:ext cx="1080" cy="577080"/>
          </a:xfrm>
          <a:prstGeom prst="straightConnector1">
            <a:avLst/>
          </a:prstGeom>
          <a:ln w="38160">
            <a:solidFill>
              <a:srgbClr val="0d0d0d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ole tekstowe 4"/>
          <p:cNvSpPr/>
          <p:nvPr/>
        </p:nvSpPr>
        <p:spPr>
          <a:xfrm>
            <a:off x="250920" y="765000"/>
            <a:ext cx="864216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7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owa podstawa programow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łcenia ogólnego dla 8-letniej szkoły podstawowej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klasach I, IV i VI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łcenia w zawodach 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asach I branżowej szkoły I stop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asach I dotychczasowego czteroletniego technik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emestrze I szkoły police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owe ramowe plany nauczania w szkołach publ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4"/>
          <p:cNvSpPr/>
          <p:nvPr/>
        </p:nvSpPr>
        <p:spPr>
          <a:xfrm>
            <a:off x="250920" y="765000"/>
            <a:ext cx="8713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0 listopada 2017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chwały w sprawie stwierdzenia przekształcenia szko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0 listopada 2017 r./do 30 listopada 201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tuty dotychczasowych przedszkoli, szkół podstawowych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kół specjalnych przysposabiających do pracy, szkół policealnyc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gimnazjów, zachowują moc do dnia wejścia w życie statutów wydanych na podstawie ustawy Prawo oświat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8/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gzamin ósmoklasisty jako obowiązkowy egzamin zewnętrzny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podstawie wymagań określonych w podstawie programowej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(przedmioty obowiązkowe: język polski, matematyka, język obcy nowożyt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ole tekstowe 4"/>
          <p:cNvSpPr/>
          <p:nvPr/>
        </p:nvSpPr>
        <p:spPr>
          <a:xfrm>
            <a:off x="179280" y="549360"/>
            <a:ext cx="878544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19 r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tychczasowe 3-letnie liceum ogólnokształcące stanie się 4-letnim liceum ogólnokształcąc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espół szkół, w skład którego wchodzi gimnazjum i liceum ogólnokształcące, stanie się 4-letnim liceum ogólnokształcąc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20 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pocznie się stopniowe wygaszanie 3-letniego liceum ogólnokształcącego – koniec cyklu kształcenia do 31 sierpnia 202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1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tychczasowe 4-letnie technikum zostanie przekształcon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5-letnie technik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1 września 2020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tworzenie branżowej szkoły II stop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- term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2"/>
          <p:cNvSpPr/>
          <p:nvPr/>
        </p:nvSpPr>
        <p:spPr>
          <a:xfrm>
            <a:off x="250920" y="90792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roku szkolnego 2017/20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jęcia z zakresu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doradztwa zawodowego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ędą realizowane w oparciu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program przygotowany przez nauczyciela realizującego te zajęci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dopuszczony do użytku przez dyrektora szkoły, po zasięgnięciu opinii rady pedagogi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, zawiera treści dotyczące informacji o zawodach, kwalifikacjach i stanowiskach pracy oraz możliwościach uzyskania kwalifikacji zgodnych z potrzebami rynku pracy i predyspozycjami zawodowy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5"/>
          <p:cNvSpPr/>
          <p:nvPr/>
        </p:nvSpPr>
        <p:spPr>
          <a:xfrm>
            <a:off x="104292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a reformy – doradztwo zawod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ole tekstowe 1"/>
          <p:cNvSpPr/>
          <p:nvPr/>
        </p:nvSpPr>
        <p:spPr>
          <a:xfrm>
            <a:off x="250920" y="620640"/>
            <a:ext cx="85690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W okresie do dnia 31 sierpnia 2020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Pierwszeństwo w zatrudnieniu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 wolnych stanowiskach prac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la nauczycieli w szkołach prowadzonych przez jednostki samorządu terytorialnego przysługu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) nauczycielom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przeniesionym w stan nieczynny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nauczycielom, którzy otrzymali informację o przeniesieniu ich w stan nieczynn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 początkiem kolejnego roku szkolnego, oraz nauczycielom, którzy złożyli wniosek o przeniesienie w stan nieczynny w trybie art. 20 ust. 5c ustawy – Karta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) nauczycielom,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z którymi rozwiązano stosunek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cy w trybie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t. 226 ust. 2, z dniem wypowiedzenia im stosu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1619280" y="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uczyciele – wolne stanowiska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33700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2124000" y="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ferty pracy dla nauczyci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0" y="595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Art. 224.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1. W okresie do dnia 31 sierpnia 2023 r. dyrektor szkoły prowadzonej przez jednostkę samorządu terytorialnego informuje kuratora oświaty sprawującego nadzór pedagogiczny nad szkołą o wolnych stanowiskach pracy dla nauczycie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553080"/>
          </a:xfrm>
          <a:prstGeom prst="rect">
            <a:avLst/>
          </a:prstGeom>
          <a:ln w="0">
            <a:noFill/>
          </a:ln>
        </p:spPr>
      </p:pic>
      <p:sp>
        <p:nvSpPr>
          <p:cNvPr id="52" name="Prostokąt 4"/>
          <p:cNvSpPr/>
          <p:nvPr/>
        </p:nvSpPr>
        <p:spPr>
          <a:xfrm>
            <a:off x="3257640" y="648828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 Statystyczny w Gdańsku, listopad 2012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Centralny rejestr orzeczeń dyscyplinar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836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Począwszy od dnia 1 marca 2017 r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yrektor szkoły ustala za pomocą narzędzia informatycznego udostępnionego przez Ministra Edukacji Narodowej, czy numer PESEL nauczyciela lub osoby ubiegającej się o zatrudnienie na stanowisku nauczyciela, znajduje się w rejestr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ejestr zawiera: dane identyfikujące nauczyciela, rodzaj orzeczonej kary dyscyplinarnej oraz okres ukarania, oznaczenie komisji dyscyplinarnej, która wydała prawomocne orzeczenie,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raz z sygnaturą sprawy, datę wydania i uprawomocnienia się orzeczenia, datę i miejsce popełnienia czynu, którego dotyczy orzeczenie, datę doręczenia nauczycielowi orzecz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9"/>
          <p:cNvSpPr/>
          <p:nvPr/>
        </p:nvSpPr>
        <p:spPr>
          <a:xfrm>
            <a:off x="179280" y="0"/>
            <a:ext cx="8615520" cy="549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owe podstawy programowe – szkolenia dla nauczycie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1"/>
          <p:cNvSpPr/>
          <p:nvPr/>
        </p:nvSpPr>
        <p:spPr>
          <a:xfrm>
            <a:off x="179280" y="981000"/>
            <a:ext cx="878544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27 lutego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począł się cykl konferencji dotyczących wdrażania nowej podstawy programowej z udziałem dyrektorów i pracowników placówek doskonalenia nauczycieli, a także nauczycieli-konsultantów, nauczycieli-doradców metodycznych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końca obecnego roku szko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lacówki doskonalenia nauczycieli zaplanowały w całej Polsce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4056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szkoleń z wdrażania nowej podstawy programowej, w których udział weźmie </a:t>
            </a:r>
            <a:r>
              <a:rPr b="1" lang="pl-PL" sz="2000" spc="-1" strike="noStrike">
                <a:solidFill>
                  <a:srgbClr val="3333ff"/>
                </a:solidFill>
                <a:latin typeface="Arial"/>
              </a:rPr>
              <a:t>227 356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uczyci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9"/>
          <p:cNvSpPr/>
          <p:nvPr/>
        </p:nvSpPr>
        <p:spPr>
          <a:xfrm>
            <a:off x="684360" y="0"/>
            <a:ext cx="7564320" cy="47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e nad przygotowaniem podręcz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1"/>
          <p:cNvSpPr/>
          <p:nvPr/>
        </p:nvSpPr>
        <p:spPr>
          <a:xfrm>
            <a:off x="179280" y="836640"/>
            <a:ext cx="87138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końca czerwc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gotowane zostaną podręczniki do nowej podstawy program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ręczniki, materiały edukacyjne, materiały ćwiczeniowe uczniowie szkół podstawowych oraz klas gimnazjalnych otrzymają bezpłatnie bezpośrednio w swoich szkoł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2"/>
          <p:cNvSpPr/>
          <p:nvPr/>
        </p:nvSpPr>
        <p:spPr>
          <a:xfrm>
            <a:off x="1332000" y="2708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685800"/>
            <a:ext cx="496872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3"/>
          <p:cNvSpPr/>
          <p:nvPr/>
        </p:nvSpPr>
        <p:spPr>
          <a:xfrm>
            <a:off x="5796000" y="6334200"/>
            <a:ext cx="33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rząd Statystyczny  w Gdań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an ludności na dzień 12 XII 2013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4"/>
          <p:cNvSpPr/>
          <p:nvPr/>
        </p:nvSpPr>
        <p:spPr>
          <a:xfrm>
            <a:off x="68436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GNOZA DEMOGRAFICZNA LUDNOŚCI NA LATA 2014-2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POWIATÓW W WOJEWÓDZTWIE POMORS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5"/>
          <p:cNvSpPr/>
          <p:nvPr/>
        </p:nvSpPr>
        <p:spPr>
          <a:xfrm>
            <a:off x="4932360" y="112536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2050 r. w porównaniu z 2013 r. we wszystkich powia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mniejszy się udział osób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wieku 0-14 lat w ogó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ie ludności danego powia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jmniejszy spa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ędzie odnotowany w Gdańsku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0,2 p.proc.) i w Sopo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0,6 p.proc.), a największy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owiecie kościers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5,1 p.proc.) i malborskim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o 5,0 p.pro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Liczba uczniów w poszczególnych typach szkół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(lata 2007-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3"/>
          <p:cNvSpPr/>
          <p:nvPr/>
        </p:nvSpPr>
        <p:spPr>
          <a:xfrm>
            <a:off x="5724360" y="655020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pracowanie własne wg danych z 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125360"/>
          <a:ext cx="8785440" cy="3814920"/>
        </p:xfrm>
        <a:graphic>
          <a:graphicData uri="http://schemas.openxmlformats.org/drawingml/2006/table">
            <a:tbl>
              <a:tblPr/>
              <a:tblGrid>
                <a:gridCol w="2232000"/>
                <a:gridCol w="1440000"/>
                <a:gridCol w="1474920"/>
                <a:gridCol w="1477800"/>
                <a:gridCol w="2160720"/>
              </a:tblGrid>
              <a:tr h="11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g danych S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szkół publicznych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la młodzież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nauczycie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ucznió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uczniów przypadająca na jednego nauczyci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8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6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5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6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dzień 30.IX.2014 r.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4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5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ytuł 1"/>
          <p:cNvSpPr/>
          <p:nvPr/>
        </p:nvSpPr>
        <p:spPr>
          <a:xfrm>
            <a:off x="179280" y="0"/>
            <a:ext cx="8785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a uczniów na jednego nauczyci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lata 2014-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1125360"/>
          <a:ext cx="8785440" cy="4237200"/>
        </p:xfrm>
        <a:graphic>
          <a:graphicData uri="http://schemas.openxmlformats.org/drawingml/2006/table">
            <a:tbl>
              <a:tblPr/>
              <a:tblGrid>
                <a:gridCol w="725760"/>
                <a:gridCol w="1002960"/>
                <a:gridCol w="935280"/>
                <a:gridCol w="792000"/>
                <a:gridCol w="1008000"/>
                <a:gridCol w="914400"/>
                <a:gridCol w="814680"/>
                <a:gridCol w="988920"/>
                <a:gridCol w="814320"/>
                <a:gridCol w="789120"/>
              </a:tblGrid>
              <a:tr h="311760"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6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5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SIO 30.IX.2014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oddz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zba uczniów na oddzia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11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63" name="pole tekstowe 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a uczniów w odd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lata 2014, 2015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9"/>
          <p:cNvSpPr/>
          <p:nvPr/>
        </p:nvSpPr>
        <p:spPr>
          <a:xfrm>
            <a:off x="0" y="0"/>
            <a:ext cx="6377040" cy="108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303120"/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4" descr="Bez tytułu.png"/>
          <p:cNvPicPr/>
          <p:nvPr/>
        </p:nvPicPr>
        <p:blipFill>
          <a:blip r:embed="rId1"/>
          <a:stretch/>
        </p:blipFill>
        <p:spPr>
          <a:xfrm>
            <a:off x="179280" y="2085840"/>
            <a:ext cx="8964720" cy="477216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3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rostokąt 4"/>
          <p:cNvSpPr/>
          <p:nvPr/>
        </p:nvSpPr>
        <p:spPr>
          <a:xfrm>
            <a:off x="179280" y="476280"/>
            <a:ext cx="878544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Do 31 marca 2017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gan stanowiący jednostkę samorządu terytorialnego (JST)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 otrzymaniu pozytywnej opinii właściwego kuratorium oświat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oraz opinii związkowej), podejmie uchwałę w sprawie dostosowania sieci szkół do nowego ustroju szkol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e tekstowe 4"/>
          <p:cNvSpPr/>
          <p:nvPr/>
        </p:nvSpPr>
        <p:spPr>
          <a:xfrm>
            <a:off x="684360" y="1628640"/>
            <a:ext cx="47512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eśc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40"/>
          <p:cNvSpPr/>
          <p:nvPr/>
        </p:nvSpPr>
        <p:spPr>
          <a:xfrm>
            <a:off x="684360" y="3933720"/>
            <a:ext cx="4751280" cy="825480"/>
          </a:xfrm>
          <a:prstGeom prst="rect">
            <a:avLst/>
          </a:prstGeom>
          <a:solidFill>
            <a:srgbClr val="92d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śmioletnia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Łącznik prosty ze strzałką 42"/>
          <p:cNvCxnSpPr>
            <a:stCxn id="68" idx="2"/>
            <a:endCxn id="69" idx="0"/>
          </p:cNvCxnSpPr>
          <p:nvPr/>
        </p:nvCxnSpPr>
        <p:spPr>
          <a:xfrm>
            <a:off x="3058920" y="2459160"/>
            <a:ext cx="1080" cy="14752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1" name="pole tekstowe 5"/>
          <p:cNvSpPr/>
          <p:nvPr/>
        </p:nvSpPr>
        <p:spPr>
          <a:xfrm>
            <a:off x="0" y="6922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Od 1 września 2017 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10"/>
          <p:cNvSpPr/>
          <p:nvPr/>
        </p:nvSpPr>
        <p:spPr>
          <a:xfrm>
            <a:off x="6588000" y="1844640"/>
            <a:ext cx="180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zkoła fili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Łącznik prosty ze strzałką 12"/>
          <p:cNvCxnSpPr>
            <a:stCxn id="68" idx="3"/>
            <a:endCxn id="72" idx="1"/>
          </p:cNvCxnSpPr>
          <p:nvPr/>
        </p:nvCxnSpPr>
        <p:spPr>
          <a:xfrm flipV="1">
            <a:off x="5435280" y="2028600"/>
            <a:ext cx="1152720" cy="16560"/>
          </a:xfrm>
          <a:prstGeom prst="straightConnector1">
            <a:avLst/>
          </a:prstGeom>
          <a:ln w="381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74" name="pole tekstowe 16"/>
          <p:cNvSpPr/>
          <p:nvPr/>
        </p:nvSpPr>
        <p:spPr>
          <a:xfrm>
            <a:off x="6588000" y="4076640"/>
            <a:ext cx="1800360" cy="368280"/>
          </a:xfrm>
          <a:prstGeom prst="rect">
            <a:avLst/>
          </a:prstGeom>
          <a:solidFill>
            <a:srgbClr val="d7e4bd"/>
          </a:solidFill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zkoła fili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Łącznik prosty ze strzałką 17"/>
          <p:cNvCxnSpPr>
            <a:endCxn id="74" idx="1"/>
          </p:cNvCxnSpPr>
          <p:nvPr/>
        </p:nvCxnSpPr>
        <p:spPr>
          <a:xfrm flipV="1">
            <a:off x="5435280" y="4262040"/>
            <a:ext cx="1152720" cy="15120"/>
          </a:xfrm>
          <a:prstGeom prst="straightConnector1">
            <a:avLst/>
          </a:prstGeom>
          <a:ln w="381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76" name="pole tekstowe 11"/>
          <p:cNvSpPr/>
          <p:nvPr/>
        </p:nvSpPr>
        <p:spPr>
          <a:xfrm>
            <a:off x="1116000" y="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- przekształc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Łącznik prosty ze strzałką 13"/>
          <p:cNvCxnSpPr>
            <a:stCxn id="72" idx="2"/>
            <a:endCxn id="74" idx="0"/>
          </p:cNvCxnSpPr>
          <p:nvPr/>
        </p:nvCxnSpPr>
        <p:spPr>
          <a:xfrm>
            <a:off x="7488000" y="2214720"/>
            <a:ext cx="1080" cy="186264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4"/>
          <p:cNvSpPr/>
          <p:nvPr/>
        </p:nvSpPr>
        <p:spPr>
          <a:xfrm>
            <a:off x="2195640" y="1123920"/>
            <a:ext cx="4752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tychczasowe gimnaz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5"/>
          <p:cNvSpPr/>
          <p:nvPr/>
        </p:nvSpPr>
        <p:spPr>
          <a:xfrm>
            <a:off x="250920" y="1987560"/>
            <a:ext cx="2952720" cy="82548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mioletnia szkoła podstaw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ole tekstowe 11"/>
          <p:cNvSpPr/>
          <p:nvPr/>
        </p:nvSpPr>
        <p:spPr>
          <a:xfrm>
            <a:off x="250920" y="3429000"/>
            <a:ext cx="2952720" cy="8254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zyletnie liceum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2"/>
          <p:cNvSpPr/>
          <p:nvPr/>
        </p:nvSpPr>
        <p:spPr>
          <a:xfrm>
            <a:off x="250920" y="4869000"/>
            <a:ext cx="2881080" cy="825480"/>
          </a:xfrm>
          <a:prstGeom prst="rect">
            <a:avLst/>
          </a:prstGeom>
          <a:solidFill>
            <a:srgbClr val="fcd5b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teroletnie techn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13"/>
          <p:cNvSpPr/>
          <p:nvPr/>
        </p:nvSpPr>
        <p:spPr>
          <a:xfrm>
            <a:off x="5796000" y="2131920"/>
            <a:ext cx="3024000" cy="8254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teroletnie liceum ogólnokształc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le tekstowe 14"/>
          <p:cNvSpPr/>
          <p:nvPr/>
        </p:nvSpPr>
        <p:spPr>
          <a:xfrm>
            <a:off x="5796000" y="3429000"/>
            <a:ext cx="3024000" cy="825480"/>
          </a:xfrm>
          <a:prstGeom prst="rect">
            <a:avLst/>
          </a:prstGeom>
          <a:solidFill>
            <a:srgbClr val="fcd5b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ęcioletnie techn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Łącznik prosty ze strzałką 18"/>
          <p:cNvCxnSpPr>
            <a:stCxn id="78" idx="2"/>
            <a:endCxn id="80" idx="3"/>
          </p:cNvCxnSpPr>
          <p:nvPr/>
        </p:nvCxnSpPr>
        <p:spPr>
          <a:xfrm flipH="1">
            <a:off x="3202920" y="1585440"/>
            <a:ext cx="1369080" cy="2258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Łącznik prosty ze strzałką 20"/>
          <p:cNvCxnSpPr>
            <a:stCxn id="78" idx="2"/>
            <a:endCxn id="82" idx="1"/>
          </p:cNvCxnSpPr>
          <p:nvPr/>
        </p:nvCxnSpPr>
        <p:spPr>
          <a:xfrm>
            <a:off x="4572000" y="1585440"/>
            <a:ext cx="1224720" cy="96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Łącznik prosty ze strzałką 22"/>
          <p:cNvCxnSpPr>
            <a:endCxn id="81" idx="3"/>
          </p:cNvCxnSpPr>
          <p:nvPr/>
        </p:nvCxnSpPr>
        <p:spPr>
          <a:xfrm flipH="1">
            <a:off x="3131640" y="1555920"/>
            <a:ext cx="1512000" cy="372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Łącznik prosty ze strzałką 24"/>
          <p:cNvCxnSpPr>
            <a:stCxn id="78" idx="2"/>
            <a:endCxn id="83" idx="1"/>
          </p:cNvCxnSpPr>
          <p:nvPr/>
        </p:nvCxnSpPr>
        <p:spPr>
          <a:xfrm>
            <a:off x="4572000" y="1585440"/>
            <a:ext cx="1224720" cy="2259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pole tekstowe 25"/>
          <p:cNvSpPr/>
          <p:nvPr/>
        </p:nvSpPr>
        <p:spPr>
          <a:xfrm>
            <a:off x="5796000" y="4795920"/>
            <a:ext cx="3024000" cy="825480"/>
          </a:xfrm>
          <a:prstGeom prst="rect">
            <a:avLst/>
          </a:prstGeom>
          <a:solidFill>
            <a:srgbClr val="e6e0e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nżowa szkoł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top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Łącznik prosty ze strzałką 27"/>
          <p:cNvCxnSpPr>
            <a:stCxn id="78" idx="2"/>
            <a:endCxn id="88" idx="1"/>
          </p:cNvCxnSpPr>
          <p:nvPr/>
        </p:nvCxnSpPr>
        <p:spPr>
          <a:xfrm>
            <a:off x="4572000" y="1585800"/>
            <a:ext cx="1224720" cy="3626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Łącznik prosty ze strzałką 33"/>
          <p:cNvCxnSpPr>
            <a:stCxn id="78" idx="2"/>
            <a:endCxn id="79" idx="3"/>
          </p:cNvCxnSpPr>
          <p:nvPr/>
        </p:nvCxnSpPr>
        <p:spPr>
          <a:xfrm flipH="1">
            <a:off x="3202920" y="1585440"/>
            <a:ext cx="1369080" cy="8182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pole tekstowe 40"/>
          <p:cNvSpPr/>
          <p:nvPr/>
        </p:nvSpPr>
        <p:spPr>
          <a:xfrm>
            <a:off x="2124000" y="6021360"/>
            <a:ext cx="475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imnaz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Łącznik prosty ze strzałką 42"/>
          <p:cNvCxnSpPr>
            <a:stCxn id="78" idx="2"/>
            <a:endCxn id="91" idx="0"/>
          </p:cNvCxnSpPr>
          <p:nvPr/>
        </p:nvCxnSpPr>
        <p:spPr>
          <a:xfrm flipH="1">
            <a:off x="4498200" y="1585440"/>
            <a:ext cx="73800" cy="443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pole tekstowe 1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drażanie reformy edukacji – przekształcenie, włą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7"/>
          <p:cNvSpPr/>
          <p:nvPr/>
        </p:nvSpPr>
        <p:spPr>
          <a:xfrm>
            <a:off x="358920" y="549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333ff"/>
                </a:solidFill>
                <a:uFillTx/>
                <a:latin typeface="Arial"/>
              </a:rPr>
              <a:t>Z dniem 1 września 2017, 1 września 2018 albo 1 września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5T05:48:00Z</dcterms:created>
  <dc:creator>Pracownik</dc:creator>
  <dc:description/>
  <dc:language>en-US</dc:language>
  <cp:lastModifiedBy>user</cp:lastModifiedBy>
  <dcterms:modified xsi:type="dcterms:W3CDTF">2017-05-09T18:43:47Z</dcterms:modified>
  <cp:revision>93</cp:revision>
  <dc:subject/>
  <dc:title>Slajd 1</dc:title>
</cp:coreProperties>
</file>