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B4A6-1BFF-4847-9078-37AC2B24868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Art. 162. 1. Z dniem 1 września 2017 r. dotychczasowa zasadnicza szkoła zawodowa staje się branżową szkołą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 stopnia, o której mowa w art. 18 ust. 1 pkt 2 lit. c ustawy – Prawo oświatow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Organ stanowiący jednostki samorządu terytorialnego prowadzącej dotychczasową zasadniczą szkołę zawodową, w terminie do dnia 30 listopada 2017 r., w drodze uchwały, stwierdza jej przekształcenie w branżową szkołę I stopnia zgodnie z ust.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. Uchwała, o której mowa w ust. 2, stanowi akt założycielski branżowej szkoły I stopnia w rozumieniu przepisów ustawy – Prawo oświatow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Pierwsze postępowanie rekrutacyjne do klasy I branżowej szkoły I stopnia dla absolwentów ośmioletniej szkoły podstawowej przeprowadza się na rok szkolny 2019/202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. W latach szkolnych 2019/2020–2021/2022 w branżowej szkole I stopnia organizuje się odrębne oddziały dla absolwentów gimnazjum oraz dla absolwentów ośmioletniej szkoły podstawowej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40A7-A71B-4FC5-9BCB-0F212E38241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Art. 191. 1. Z dniem 1 września 2017 r. zespół publicznych szkół, w skład którego wchodzi jedynie dotychczasowa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ześcioletnia szkoła podstawowa i dotychczasowe gimnazjum, staje się ośmioletnią szkołą podstawow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Organ stanowiący jednostki samorządu terytorialnego prowadzącej dotychczasowy zespół publicznych szkół, o którym mowa w ust. 1, w terminie do dnia 30 listopada 2017 r., w drodze uchwały, stwierdza jego przekształcenie w ośmioletnią szkołę podstawową zgodnie z ust.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. Uchwała, o której mowa w ust. 2, stanowi akt założycielski ośmioletniej szkoły podstawowej w rozumieniu przepisów ustawy – Prawo oświatow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Do ośmioletniej szkoły podstawowej, o której mowa w ust. 1, przepisy art. 118, art. 119, art. 129 ust. 8–12 i art. 176–181 stosuje się odpowiedn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92BE-4B12-4952-AB35-D488E25BD58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2D14-41D0-480F-ACD6-C5AE3F98929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8433-D3E3-45C2-A55F-79495EC65B7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Art. 292. 1. W roku szkolnym 2017/2018 zajęcia z zakresu doradztwa zawodowego, o których mowa w art. 109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st. 1 pkt 7 ustawy – Prawo oświatowe, są realizowane w oparciu o program przygotowany przez nauczyciela realizującego te zajęcia i dopuszczony do użytku przez dyrektora szkoły, po zasięgnięciu opinii rady pedagogicznej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Program, o którym mowa w ust. 1, zawiera treści dotyczące informacji o zawodach, kwalifikacjach i stanowiskach pracy oraz możliwościach uzyskania kwalifikacji zgodnych z potrzebami rynku pracy i predyspozycjami zawodowym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41CF-457B-437F-88DD-7B8098B6EF7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N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Art. 20. 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  Dyrektor szkoły w razi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 całkowitej likwidacji szkoły rozwiązuje z nauczycielem stosunek pracy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 częściowej likwidacji szkoły albo w razie zmian organizacyjnych powodujących zmniejszenie liczby oddziałów w szkole lub zmian planu nauczania uniemożliwiających dalsze zatrudnianie nauczyciela w pełnym wymiarze zajęć rozwiązuje z nim stosunek pracy lub, na wniosek nauczyciela, przenosi go w stan nieczynny. Nauczyciel zatrudniony na podstawie mianowania może wyrazić zgodę na ograniczenie zatrudnienia w trybie określonym w art. 22 ust.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c.  Wypowiedzenie jest bezskuteczne w przypadku złożenia przez nauczyciela, w terminie do 30 dni od dnia doręczenia wypowiedzenia stosunku pracy z przyczyn określonych w ust. 1 pkt 2, pisemnego wniosku o przeniesienie w stan nieczynny. Z upływem sześciomiesięcznego okresu pozostawania w stanie nieczynnym stosunek pracy wygasa. Wygaśnięcie stosunku pracy powoduje dla nauczyciela skutki, jakie przepisy prawa wiążą z rozwiązaniem stosunku pracy z przyczyn dotyczących zakładu pracy w zakresie świadczeń przedemerytalny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Art. 226. 1. W roku szkolnym 2018/2019 z nauczycielami gimnazjów prowadzonych przez jednostkę samorządu terytorialnego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trudnionymi na podstawie mianowania lub umowy o pracę na czas nieokreślony, których dalsze zatrudnienie nie jest możliwe ze względu na zmiany organizacyjne powodujące wygaszenie kształcenia w gimnazjum, rozwiązu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ię stosunek pr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Dyrektor gimnazjum, o którym mowa w ust. 1, rozwiązuje z nauczycielem stosunek pracy z końcem roku szkolnego, po uprzednim trzymiesięcznym wypowiedzen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. Nauczycielowi gimnazjum, o którym mowa w ust. 1, zatrudnionemu na podstawie mianowania, z którym rozwiązano stosunek pracy z przyczyn określonych w ust. 1, przysługuje odprawa w wysokości sześciomiesięcznego wynagrodze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sadniczego. Nauczycielowi gimnazjum zatrudnionemu na podstawie umowy o pracę na czas nieokreślony, z którym rozwiązano stosunek pracy z przyczyn określonych w ust. 1, przysługują świadczenia określone w przepisach o szczególnych zasadach rozwiązywania z pracownikami stosunków pracy z przyczyn niedotyczących pracownikó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7EF5-D182-42C8-9AC8-AD27CE65FC8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Art. 224. 1. W okresie do dnia 31 sierpnia 2023 r. dyrektor szkoły prowadzonej przez jednostkę samorządu terytorialne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ormuje kuratora oświaty sprawującego nadzór pedagogiczny nad szkołą o wolnych stanowiskach pracy d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uczyciel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Informacje, o których mowa w ust. 1, kurator oświaty udostępnia na stronie podmiotowej kuratorium oświa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. W okresie do dnia 31 sierpnia 2020 r. pierwszeństwo w zatrudnieniu na wolnych stanowiskach pracy dla nauczycieli w szkołach prowadzonych przez jednostki samorządu terytorialnego przysługuj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 nauczycielom przeniesionym w stan nieczynny, nauczycielom, którzy otrzymali informację o przeniesieniu ich w stan nieczynny z początkiem kolejnego roku szkolnego, oraz nauczycielom, którzy złożyli wniosek o przeniesienie w stan nieczynny w trybie art. 20 ust. 5c ustawy – Karta Nauczyciel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 nauczycielom, z którymi rozwiązano stosunek pracy w trybie art. 226 ust. 2, z dniem wypowiedzenia im stosunku pr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825D-9CF1-44BD-A135-BD7E025810B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KN Art. 85w. 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  Minister właściwy do spraw oświaty i wychowania prowadzi centralny rejestr orzeczeń dyscyplinarnych, zwany dalej „rejestrem”, w którym gromadzi się informacje o nauczycielach prawomocnie ukaranych karami dyscyplinarnymi, o których mowa w art. 76 ust. 1 pkt 3 i 4, oraz informacje o zawieszeniu nauczyciela w pełnieniu obowiązków, o którym mowa w art. 85t ust. 1-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Rejestr zawie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 dane identyfikujące nauczyciela - nazwisko, imię lub imiona, płeć, datę i miejsce urodzenia, imiona rodziców, obywatelstwo lub obywatelstwa, miejsce zamieszkania, numer PESEL, a w przypadku braku tego numeru - numer i serię dokumentu potwierdzającego tożsamoś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 rodzaj orzeczonej kary dyscyplinarnej, o której mowa w art. 76 ust. 1 pkt 3 albo 4, oraz okres ukarani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 oznaczenie komisji dyscyplinarnej, która wydała prawomocne orzeczenie o ukaraniu karą dyscyplinarną, oraz sygnaturę akt sprawy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) datę wydania oraz uprawomocnienia się orzeczenia, o którym mowa w pkt 3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) datę i miejsce popełnienia czynu, którego dotyczy orzeczenie, o którym mowa w pkt 3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6) datę doręczenia nauczycielowi orzeczenia, o którym mowa w pkt 3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) informację o zawieszeniu nauczyciela w pełnieniu obowiązków oraz o okresie zawiesze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. Rejestr prowadzi się w systemie teleinformatyczny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ister właściwy do spraw oświaty i wychowania jest administratorem danych zgromadzonych w rejestrze w rozumieniu art. 7 pkt 4 ustawy z dnia 29 sierpnia 1997 r. o ochronie danych osobowy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. Do wprowadzania danych do rejestru, dokonywania zmian danych w rejestrze oraz usuwania danych z rejestru są uprawnione wyłącznie osoby upoważnione przez ministra właściwego do spraw oświaty i wychowa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D4D0-E0D1-4EF6-817B-AF56AF280B3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Art. 211. 1. W przypadku niepodjęcia uchwały, o której mowa w art. 210, w terminie do dnia 31 marca 2017 r.,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uchwały podjęte na podstawie art. 17 ust. 4 ustawy zmienianej w art. 15, w brzmieniu dotychczasowym, pozostają w mocy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2. W przypadku, o którym mowa w ust. 1, organ wykonawczy jednostki samorządu terytorialnego opracowuj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i podaje do publicznej wiadomości informację w sprawie planu sieci szkół podstawowych i gimnazjów, jaki będzie obowiązywał od dnia 1 września 2017 r., z uwzględnieniem zmian w sieci szkół, które nastąpią z mocy praw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3. W przypadku niepodjęcia uchwały, o której mowa w art. 210, ustalenia obwodów lub zmiany obwodów szkół podstawowych prowadzonych przez osoby prawne niebędące jednostkami samorządu terytorialnego lub osoby fizyczne dokonuje się na rok szkolny 2018/2019 i lata następn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4. W przypadku niepodjęcia uchwały, o której mowa w art. 210, do przekształcenia dotychczasowego gimnazjum alb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łączenia dotychczasowego gimnazjum do szkoły innego typu stosuje się przepisy art. 89 ustawy – Prawo oświatow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5. W przypadku, o którym mowa w ust. 1, do zmiany uchwały podjętej na podstawie art. 17 ust. 4 ustawy zmienianej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 art. 15, w brzmieniu dotychczasowym, albo do ustalenia planu sieci publicznych szkół podstawowych na rok szkoln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2017/2018 i lata następne stosuje się przepisy art. 39 ustawy – Prawo oświatow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96F1-CECA-44E5-ADF3-D5A4B3AB247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Art. 117. 1. Z dniem 1 września 2017 r. dotychczasowa sześcioletnia szkoła podstawowa staje się ośmioletnią szkołą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odstawową, o której mowa w art. 18 ust. 1 pkt 1 ustawy – Prawo oświatow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2. Z dniem 1 września 2017 r. dotychczasowa szkoła podstawowa obejmująca strukturą organizacyjną część klas sześcioletniej szkoły podstawowej staje się ośmioletnią szkołą podstawową obejmującą strukturą organizacyjną te same klasy szkoły podstawowej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3. Z dniem 1 września 2017 r. szkoła filialna podporządkowana organizacyjnie dotychczasowej sześcioletniej szko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odstawowej staje się szkołą filialną podporządkowaną organizacyjnie ośmioletniej szkole podstawowej, obejmując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trukturą organizacyjną te same klasy szkoły podstawowej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4. Organ stanowiący jednostki samorządu terytorialnego prowadzącej dotychczasową sześcioletnią szkołę podstawową, w terminie do dnia 30 listopada 2017 r., w drodze uchwały, stwierdza jej przekształcenie w ośmioletnią szkołę podstawową zgodnie z ust. 1 lub 2. Przekształcenie szkoły filialnej zgodnie z ust. 3 stwierdza się w uchwale, o której mowa w zdaniu pierwszym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5. Uchwała, o której mowa w ust. 4, stanowi akt założycielski ośmioletniej szkoły podstawowej w rozumieniu przepisów ustawy – Prawo oświatow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6. Organ stanowiący jednostki samorządu terytorialnego albo osoba prawna niebędąca jednostką samorządu terytorialnego lub osoba fizyczna prowadzące publiczną szkołę podstawową obejmującą część klas szkoły podstawowej może postanowić o zwiększeniu liczby klas objętych strukturą organizacyjną ośmioletniej szkoły podstawowej obejmującej część klas szkoły podstawowej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7. Organ stanowiący jednostki samorządu terytorialnego albo osoba prawna niebędąca jednostką samorządu terytorialnego lub osoba fizyczna prowadząca publiczną szkołę podstawową, której organizacyjnie jest podporządkowana szkoła filialna, może postanowić o zwiększeniu liczby klas objętych strukturą organizacyjną szkoły filialnej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Art. 118. 1. Z dniem 1 września 2017 r. uczniowie klas I–VI dotychczasowej sześcioletniej szkoły podstawowej stają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ię uczniami odpowiednich klas ośmioletniej szkoły podstawowej, o której mowa w art. 18 ust. 1 pkt 1 ustawy – Prawo oświatow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2. W roku szkolnym 2016/2017 uczniowie klasy VI dotychczasowej sześcioletniej szkoły podstawowej podlegaj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romocji do klasy VII szkoły podstawowej, o której mowa w art. 18 ust. 1 pkt 1 ustawy – Prawo oświatowe, zgodn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z przepisami rozdziału 3a ustawy zmienianej w art. 15, w brzmieniu nadanym niniejszą ustawą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4B56-A48A-4674-9D73-E4755E83852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Art. 129. 1. Dotychczasowe gimnazjum możn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 przekształcić w ośmioletnią szkołę podstawową, o której mowa w art. 18 ust. 1 pkt 1 ustawy – Prawo oświatow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 włączyć do ośmioletniej szkoły podstawowej, o której mowa w art. 18 ust. 1 pkt 1 ustawy – Prawo oświatow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Rozpoczęcie działalności przez szkołę utworzoną zgodnie z ust. 1 może nastąpić z dniem 1 września 2017 r., z dniem 1 września 2018 r. albo z dniem 1 września 2019 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. Dotychczasowe gimnazjum możn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 przekształcić w trzyletnie liceum ogólnokształcące, o którym mowa w art. 9 ust. 1 pkt 3 lit. b ustawy zmienianej w art. 15, w brzmieniu dotychczasowy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 przekształcić w czteroletnie technikum, o którym mowa w art. 9 ust. 1 pkt 3 lit. c ustawy zmienianej w art. 15, w brzmieniu dotychczasowy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 włączyć do trzyletniego liceum ogólnokształcącego, o którym mowa w art. 9 ust. 1 pkt 3 lit. b ustawy zmienianej w art. 15, w brzmieniu dotychczasowy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) włączyć do czteroletniego technikum, o którym mowa w art. 9 ust. 1 pkt 3 lit. c ustawy zmienianej w art. 15, w brzmieniu dotychczasowy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) przekształcić w czteroletnie liceum ogólnokształcące, o którym mowa w art. 18 ust. 1 pkt 2 lit. a ustawy – Prawo oświatow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6) przekształcić w pięcioletnie technikum, o którym mowa w art. 18 ust. 1 pkt 2 lit. b ustawy – Prawo oświatow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) włączyć do czteroletniego liceum ogólnokształcącego, o którym mowa w art. 18 ust. 1 pkt 2 lit. a ustawy – Prawo oświatow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) włączyć do pięcioletniego technikum, o którym mowa w art. 18 ust. 1 pkt 2 lit. b ustawy – Prawo oświatow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) przekształcić w branżową szkołę I stopnia, o której mowa w art. 18 ust. 1 pkt 2 lit. c ustawy – Prawo oświatow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) włączyć do branżowej szkoły I stopnia, o której mowa w art. 18 ust. 1 pkt 2 lit. c ustawy – Prawo oświatow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Rozpoczęcie działalności przez szkołę utworzoną zgodnie z ust. 3 pkt 1–4, może nastąpić z dniem 1 września 2017 r. albo z dniem 1 września 2018 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. Rozpoczęcie działalności przez szkołę utworzoną zgodnie z ust. 3 pkt 5–8, może nastąpić z dniem 1 września 2019 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6. Rozpoczęcie działalności przez szkołę utworzoną zgodnie z ust. 3 pkt 9 i 10, może nastąpić z dniem 1 wrześ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017 r., z dniem 1 września 2018 r. albo z dniem 1 września 2019 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. Dzień rozpoczęcia działalności przez szkołę, o którym mowa w ust. 2 i 4–6, uznaje się za dzień odpowiednio przekształcenia, o którym mowa w ust. 1 pkt 1 i ust. 3 pkt 1, 2, 5, 6 i 9, albo włączenia, o którym mowa w ust. 1 pkt 2 i ust. 3 pkt 3, 4, 7, 8 i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. W roku szkolnym odpowiednio 2017/2018 i 2018/2019 w szkole utworzonej zgodnie z ust. 1 i ust. 3 pkt 1–4, 9 i 10, prowadzi się klasy dotychczasowego gimnazjum, aż do czasu likwidacji tych klas zgodnie z art. 12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. Do klas, o których mowa w ust. 8, stosuje się dotychczasowe przepisy dotyczące gimnazjó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. Uczniowie klas, o których mowa w ust. 8, otrzymują świadectwa ustalone dla dotychczasowych gimnazjów, opatrzone pieczęcią gimnazj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. Uczniowie klas, o których mowa w ust. 8, otrzymują świadectwa ustalone dla dotychczasowych gimnazjów, opatr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eczęcią gimnazj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1. W roku szkolnym odpowiednio 2017/2018 i 2018/2019 dla klas, o których mowa w ust. 8, zachowuje się obwó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stalony dla dotychczasowego publicznego gimnazj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2. Organ stanowiący jednostki samorządu terytorialnego może zmienić obwód, o którym mowa w ust. 1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klas, o których mowa w ust. 8, w publicznych szkołach prowadzonych przez osobę prawną niebędącą jednostk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morządu terytorialnego lub osobę fizyczną zmiana obwodu, o którym mowa w ust. 11, następuje w uzgodnieni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 tą osobą. Przepisy art. 17 ust. 2 i 3 ustawy zmienianej w art. 15, w brzmieniu dotychczasowym, stosuje si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3. Dotychczasowe trzyletnie liceum ogólnokształcące albo dotychczasowe czteroletnie technikum, utworzone zgodn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 ust. 3 pkt 1–4, z dniem 1 września 2019 r. staje się odpowiednio czteroletnim liceum ogólnokształcącym albo pięcioletn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chnikum. Przepisy art. 146 ust. 2–4, art. 147–150, art. 152 ust. 2–4, art. 153–160, art. 184 ust. 2–4 i art. 185–1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osuje si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4. W przypadku publicznej szkoły tworzonej zgodnie z ust. 1 i ust. 3 pkt 1–4 oraz pkt 9 i 10, która rozpoczyna działalnoś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 dniem 1 września 2017 r., przepisów art. 59 ustawy zmienianej w art. 15, w brzmieniu dotychczasowym, n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osuje si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5. W przypadku publicznej szkoły tworzonej zgodnie z ust. 1 i 3, która rozpoczyna działalność odpowiednio z dni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 września 2018 r. albo z dniem 1 września 2019 r., przepisów art. 89 ustawy – Prawo oświatowe nie stosuje si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6. W przypadkach, o których mowa w ust. 1 pkt 2 i ust. 3 pkt 3, 4, 7, 8 i 10, za dzień zakończenia działalności dotychczasowe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imnazjum uznaje się dzień 31 sierpnia roku, w którym następuje włączenie dotychczasowego gimnazj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 odpowiednio ośmioletniej szkoły podstawowej, dotychczasowego trzyletniego liceum ogólnokształcącego, dotychczasowe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teroletniego technikum, czteroletniego liceum ogólnokształcącego, pięcioletniego technikum lub branżowe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zkoły I stop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7. W wyniku przekształcenia, o którym mowa w ust. 1 pkt 1, powstaje ośmioletnia szkoła podstawowa o pełne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ukturze organizacyjnej, której nie jest organizacyjnie podporządkowana szkoła filial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2D81-DFEA-49CE-A9AB-39130D457F7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4F22-9C28-48BA-9C21-D2E47EF9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D70D-D977-40CC-8ADD-E2C01C41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6026-4557-4948-9FD0-3C1D5B58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5835-DD43-4102-B7CC-86DC3F01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F618-F793-4E93-B359-790A95B3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FDB6-04FF-4CFF-823E-0E6BF8C5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95F5-B020-4F8C-BF86-D463958F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CDA9-C304-4058-9368-DE0EE668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15EB-1AFA-4DC0-A9A1-1E43F014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CBBA-541D-43A8-AA2B-CD6B1143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94AD-6BFA-4D1B-8CC5-945C5758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98D3-30F2-4BF2-A3EC-821BE09D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3565-2989-423E-A91C-1E09A1CA1BF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E:\Kopie innych pracownikow\1 konferencje i spotkania\2016.08.24 konferencje sierpniowe\tmp\KO gdansk.png"/>
          <p:cNvPicPr/>
          <p:nvPr/>
        </p:nvPicPr>
        <p:blipFill>
          <a:blip r:embed="rId1"/>
          <a:stretch/>
        </p:blipFill>
        <p:spPr>
          <a:xfrm>
            <a:off x="0" y="765000"/>
            <a:ext cx="8879040" cy="1409760"/>
          </a:xfrm>
          <a:prstGeom prst="rect">
            <a:avLst/>
          </a:prstGeom>
          <a:ln w="0">
            <a:noFill/>
          </a:ln>
        </p:spPr>
      </p:pic>
      <p:sp>
        <p:nvSpPr>
          <p:cNvPr id="49" name="pole tekstowe 2"/>
          <p:cNvSpPr/>
          <p:nvPr/>
        </p:nvSpPr>
        <p:spPr>
          <a:xfrm>
            <a:off x="971640" y="306864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70c0"/>
                </a:solidFill>
                <a:latin typeface="Arial"/>
              </a:rPr>
              <a:t>Wdrażanie reformy eduk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ole tekstowe 3"/>
          <p:cNvSpPr/>
          <p:nvPr/>
        </p:nvSpPr>
        <p:spPr>
          <a:xfrm>
            <a:off x="7596360" y="623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j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ole tekstowe 1"/>
          <p:cNvSpPr/>
          <p:nvPr/>
        </p:nvSpPr>
        <p:spPr>
          <a:xfrm>
            <a:off x="2124000" y="1844640"/>
            <a:ext cx="4751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asadnicza szkoła zawod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ole tekstowe 2"/>
          <p:cNvSpPr/>
          <p:nvPr/>
        </p:nvSpPr>
        <p:spPr>
          <a:xfrm>
            <a:off x="2124000" y="3573360"/>
            <a:ext cx="4751640" cy="459720"/>
          </a:xfrm>
          <a:prstGeom prst="rect">
            <a:avLst/>
          </a:prstGeom>
          <a:solidFill>
            <a:srgbClr val="ccc1d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Branżowa szkoła I stop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Łącznik prosty ze strzałką 3"/>
          <p:cNvCxnSpPr>
            <a:stCxn id="95" idx="2"/>
            <a:endCxn id="96" idx="0"/>
          </p:cNvCxnSpPr>
          <p:nvPr/>
        </p:nvCxnSpPr>
        <p:spPr>
          <a:xfrm>
            <a:off x="4500360" y="2306160"/>
            <a:ext cx="1080" cy="12675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98" name="pole tekstowe 6"/>
          <p:cNvSpPr/>
          <p:nvPr/>
        </p:nvSpPr>
        <p:spPr>
          <a:xfrm>
            <a:off x="1042920" y="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drażanie reformy edukacji - przekształc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ole tekstowe 10"/>
          <p:cNvSpPr/>
          <p:nvPr/>
        </p:nvSpPr>
        <p:spPr>
          <a:xfrm>
            <a:off x="0" y="69228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Od 1 września 2017 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ole tekstowe 1"/>
          <p:cNvSpPr/>
          <p:nvPr/>
        </p:nvSpPr>
        <p:spPr>
          <a:xfrm>
            <a:off x="1835280" y="1773360"/>
            <a:ext cx="5545080" cy="459720"/>
          </a:xfrm>
          <a:prstGeom prst="rect">
            <a:avLst/>
          </a:prstGeom>
          <a:solidFill>
            <a:srgbClr val="dbee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Arial"/>
              </a:rPr>
              <a:t>Zespół szkó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ole tekstowe 2"/>
          <p:cNvSpPr/>
          <p:nvPr/>
        </p:nvSpPr>
        <p:spPr>
          <a:xfrm>
            <a:off x="2700360" y="3789360"/>
            <a:ext cx="3816360" cy="825480"/>
          </a:xfrm>
          <a:prstGeom prst="rect">
            <a:avLst/>
          </a:prstGeom>
          <a:solidFill>
            <a:srgbClr val="92d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śmioletnia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zkoła podstaw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ole tekstowe 6"/>
          <p:cNvSpPr/>
          <p:nvPr/>
        </p:nvSpPr>
        <p:spPr>
          <a:xfrm>
            <a:off x="1835280" y="2276640"/>
            <a:ext cx="2736720" cy="398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Arial"/>
              </a:rPr>
              <a:t>Szkoła podstaw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ole tekstowe 7"/>
          <p:cNvSpPr/>
          <p:nvPr/>
        </p:nvSpPr>
        <p:spPr>
          <a:xfrm>
            <a:off x="4643280" y="2276640"/>
            <a:ext cx="2737080" cy="398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Arial"/>
              </a:rPr>
              <a:t>Gimnazj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Łącznik prosty ze strzałką 9"/>
          <p:cNvCxnSpPr>
            <a:stCxn id="100" idx="2"/>
            <a:endCxn id="101" idx="0"/>
          </p:cNvCxnSpPr>
          <p:nvPr/>
        </p:nvCxnSpPr>
        <p:spPr>
          <a:xfrm>
            <a:off x="4608000" y="2234880"/>
            <a:ext cx="1080" cy="1554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5" name="pole tekstowe 8"/>
          <p:cNvSpPr/>
          <p:nvPr/>
        </p:nvSpPr>
        <p:spPr>
          <a:xfrm>
            <a:off x="1042920" y="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drażanie reformy edukacji - przekształc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ole tekstowe 10"/>
          <p:cNvSpPr/>
          <p:nvPr/>
        </p:nvSpPr>
        <p:spPr>
          <a:xfrm>
            <a:off x="0" y="69228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Od 1 września 2017 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rostokąt 47"/>
          <p:cNvSpPr/>
          <p:nvPr/>
        </p:nvSpPr>
        <p:spPr>
          <a:xfrm>
            <a:off x="611280" y="6093000"/>
            <a:ext cx="7921440" cy="502920"/>
          </a:xfrm>
          <a:prstGeom prst="rect">
            <a:avLst/>
          </a:prstGeom>
          <a:solidFill>
            <a:srgbClr val="dce6f2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46"/>
          <p:cNvSpPr/>
          <p:nvPr/>
        </p:nvSpPr>
        <p:spPr>
          <a:xfrm>
            <a:off x="611280" y="5184720"/>
            <a:ext cx="7921440" cy="763560"/>
          </a:xfrm>
          <a:prstGeom prst="rect">
            <a:avLst/>
          </a:prstGeom>
          <a:solidFill>
            <a:srgbClr val="dce6f2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rostokąt 45"/>
          <p:cNvSpPr/>
          <p:nvPr/>
        </p:nvSpPr>
        <p:spPr>
          <a:xfrm>
            <a:off x="611280" y="4221000"/>
            <a:ext cx="7921440" cy="792360"/>
          </a:xfrm>
          <a:prstGeom prst="rect">
            <a:avLst/>
          </a:prstGeom>
          <a:solidFill>
            <a:srgbClr val="dce6f2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44"/>
          <p:cNvSpPr/>
          <p:nvPr/>
        </p:nvSpPr>
        <p:spPr>
          <a:xfrm>
            <a:off x="611280" y="3284640"/>
            <a:ext cx="7921440" cy="792000"/>
          </a:xfrm>
          <a:prstGeom prst="rect">
            <a:avLst/>
          </a:prstGeom>
          <a:solidFill>
            <a:srgbClr val="dce6f2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43"/>
          <p:cNvSpPr/>
          <p:nvPr/>
        </p:nvSpPr>
        <p:spPr>
          <a:xfrm>
            <a:off x="611280" y="2421000"/>
            <a:ext cx="7921440" cy="718920"/>
          </a:xfrm>
          <a:prstGeom prst="rect">
            <a:avLst/>
          </a:prstGeom>
          <a:solidFill>
            <a:srgbClr val="dce6f2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rostokąt 42"/>
          <p:cNvSpPr/>
          <p:nvPr/>
        </p:nvSpPr>
        <p:spPr>
          <a:xfrm>
            <a:off x="611280" y="1557360"/>
            <a:ext cx="7921440" cy="720720"/>
          </a:xfrm>
          <a:prstGeom prst="rect">
            <a:avLst/>
          </a:prstGeom>
          <a:solidFill>
            <a:srgbClr val="dce6f2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rostokąt 41"/>
          <p:cNvSpPr/>
          <p:nvPr/>
        </p:nvSpPr>
        <p:spPr>
          <a:xfrm>
            <a:off x="611280" y="620640"/>
            <a:ext cx="7921440" cy="720720"/>
          </a:xfrm>
          <a:prstGeom prst="rect">
            <a:avLst/>
          </a:prstGeom>
          <a:solidFill>
            <a:srgbClr val="d7e4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ole tekstowe 1"/>
          <p:cNvSpPr/>
          <p:nvPr/>
        </p:nvSpPr>
        <p:spPr>
          <a:xfrm>
            <a:off x="2916360" y="79200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P 6 I-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ole tekstowe 2"/>
          <p:cNvSpPr/>
          <p:nvPr/>
        </p:nvSpPr>
        <p:spPr>
          <a:xfrm>
            <a:off x="2916360" y="170172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P 8 I-V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ole tekstowe 3"/>
          <p:cNvSpPr/>
          <p:nvPr/>
        </p:nvSpPr>
        <p:spPr>
          <a:xfrm>
            <a:off x="2916360" y="258300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P 8 I-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ole tekstowe 4"/>
          <p:cNvSpPr/>
          <p:nvPr/>
        </p:nvSpPr>
        <p:spPr>
          <a:xfrm>
            <a:off x="755640" y="779400"/>
            <a:ext cx="129528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016/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ole tekstowe 5"/>
          <p:cNvSpPr/>
          <p:nvPr/>
        </p:nvSpPr>
        <p:spPr>
          <a:xfrm>
            <a:off x="755640" y="1701720"/>
            <a:ext cx="129528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017/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ole tekstowe 6"/>
          <p:cNvSpPr/>
          <p:nvPr/>
        </p:nvSpPr>
        <p:spPr>
          <a:xfrm>
            <a:off x="755640" y="2567160"/>
            <a:ext cx="129528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018/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ole tekstowe 7"/>
          <p:cNvSpPr/>
          <p:nvPr/>
        </p:nvSpPr>
        <p:spPr>
          <a:xfrm>
            <a:off x="755640" y="3470400"/>
            <a:ext cx="129528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019/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ole tekstowe 8"/>
          <p:cNvSpPr/>
          <p:nvPr/>
        </p:nvSpPr>
        <p:spPr>
          <a:xfrm>
            <a:off x="4929120" y="81900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G  3 I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ole tekstowe 9"/>
          <p:cNvSpPr/>
          <p:nvPr/>
        </p:nvSpPr>
        <p:spPr>
          <a:xfrm>
            <a:off x="4913280" y="170172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G  3 II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ole tekstowe 10"/>
          <p:cNvSpPr/>
          <p:nvPr/>
        </p:nvSpPr>
        <p:spPr>
          <a:xfrm>
            <a:off x="4929120" y="258300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G  3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ole tekstowe 11"/>
          <p:cNvSpPr/>
          <p:nvPr/>
        </p:nvSpPr>
        <p:spPr>
          <a:xfrm>
            <a:off x="7023240" y="82224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O 3  I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ole tekstowe 12"/>
          <p:cNvSpPr/>
          <p:nvPr/>
        </p:nvSpPr>
        <p:spPr>
          <a:xfrm>
            <a:off x="7020000" y="170496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O  3   I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ole tekstowe 13"/>
          <p:cNvSpPr/>
          <p:nvPr/>
        </p:nvSpPr>
        <p:spPr>
          <a:xfrm>
            <a:off x="7020000" y="255600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O 3  I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Łącznik prosty ze strzałką 15"/>
          <p:cNvCxnSpPr>
            <a:stCxn id="121" idx="3"/>
            <a:endCxn id="125" idx="1"/>
          </p:cNvCxnSpPr>
          <p:nvPr/>
        </p:nvCxnSpPr>
        <p:spPr>
          <a:xfrm>
            <a:off x="6297120" y="1002960"/>
            <a:ext cx="723240" cy="8866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8" name="Łącznik prosty ze strzałką 17"/>
          <p:cNvCxnSpPr>
            <a:stCxn id="122" idx="3"/>
            <a:endCxn id="126" idx="1"/>
          </p:cNvCxnSpPr>
          <p:nvPr/>
        </p:nvCxnSpPr>
        <p:spPr>
          <a:xfrm>
            <a:off x="6281280" y="1886040"/>
            <a:ext cx="739080" cy="854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9" name="pole tekstowe 18"/>
          <p:cNvSpPr/>
          <p:nvPr/>
        </p:nvSpPr>
        <p:spPr>
          <a:xfrm>
            <a:off x="7062840" y="3355920"/>
            <a:ext cx="1368360" cy="64260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LO 3 I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O 4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Łącznik prosty ze strzałką 20"/>
          <p:cNvCxnSpPr>
            <a:stCxn id="123" idx="3"/>
          </p:cNvCxnSpPr>
          <p:nvPr/>
        </p:nvCxnSpPr>
        <p:spPr>
          <a:xfrm>
            <a:off x="6297480" y="2766960"/>
            <a:ext cx="796320" cy="8071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1" name="Łącznik prosty ze strzałką 22"/>
          <p:cNvCxnSpPr>
            <a:stCxn id="116" idx="3"/>
          </p:cNvCxnSpPr>
          <p:nvPr/>
        </p:nvCxnSpPr>
        <p:spPr>
          <a:xfrm>
            <a:off x="4284360" y="2766960"/>
            <a:ext cx="2809080" cy="109440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132" name="pole tekstowe 25"/>
          <p:cNvSpPr/>
          <p:nvPr/>
        </p:nvSpPr>
        <p:spPr>
          <a:xfrm>
            <a:off x="2916360" y="345744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P 8 I-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ole tekstowe 26"/>
          <p:cNvSpPr/>
          <p:nvPr/>
        </p:nvSpPr>
        <p:spPr>
          <a:xfrm>
            <a:off x="7062840" y="4292640"/>
            <a:ext cx="1368360" cy="64260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LO 3 II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O 4  I-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ole tekstowe 27"/>
          <p:cNvSpPr/>
          <p:nvPr/>
        </p:nvSpPr>
        <p:spPr>
          <a:xfrm>
            <a:off x="7062840" y="5229360"/>
            <a:ext cx="1368360" cy="64260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LO 3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O 4  I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ole tekstowe 28"/>
          <p:cNvSpPr/>
          <p:nvPr/>
        </p:nvSpPr>
        <p:spPr>
          <a:xfrm>
            <a:off x="7077240" y="616428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O 4  I-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Łącznik prosty ze strzałką 30"/>
          <p:cNvCxnSpPr>
            <a:stCxn id="132" idx="3"/>
          </p:cNvCxnSpPr>
          <p:nvPr/>
        </p:nvCxnSpPr>
        <p:spPr>
          <a:xfrm>
            <a:off x="4284360" y="3642840"/>
            <a:ext cx="2778840" cy="111816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137" name="pole tekstowe 31"/>
          <p:cNvSpPr/>
          <p:nvPr/>
        </p:nvSpPr>
        <p:spPr>
          <a:xfrm>
            <a:off x="2916360" y="442440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P 8 I-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Łącznik prosty ze strzałką 33"/>
          <p:cNvCxnSpPr>
            <a:stCxn id="137" idx="3"/>
          </p:cNvCxnSpPr>
          <p:nvPr/>
        </p:nvCxnSpPr>
        <p:spPr>
          <a:xfrm>
            <a:off x="4284360" y="4608360"/>
            <a:ext cx="2778840" cy="11311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139" name="pole tekstowe 34"/>
          <p:cNvSpPr/>
          <p:nvPr/>
        </p:nvSpPr>
        <p:spPr>
          <a:xfrm>
            <a:off x="2916360" y="534672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P 8 I-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Łącznik prosty ze strzałką 36"/>
          <p:cNvCxnSpPr>
            <a:stCxn id="139" idx="3"/>
            <a:endCxn id="135" idx="1"/>
          </p:cNvCxnSpPr>
          <p:nvPr/>
        </p:nvCxnSpPr>
        <p:spPr>
          <a:xfrm>
            <a:off x="4284360" y="5530680"/>
            <a:ext cx="2793240" cy="82008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141" name="pole tekstowe 37"/>
          <p:cNvSpPr/>
          <p:nvPr/>
        </p:nvSpPr>
        <p:spPr>
          <a:xfrm>
            <a:off x="746280" y="4437000"/>
            <a:ext cx="129672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020/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ole tekstowe 38"/>
          <p:cNvSpPr/>
          <p:nvPr/>
        </p:nvSpPr>
        <p:spPr>
          <a:xfrm>
            <a:off x="755640" y="5343480"/>
            <a:ext cx="129528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021/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ole tekstowe 39"/>
          <p:cNvSpPr/>
          <p:nvPr/>
        </p:nvSpPr>
        <p:spPr>
          <a:xfrm>
            <a:off x="1547640" y="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zebieg rekrutacji – lic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ole tekstowe 49"/>
          <p:cNvSpPr/>
          <p:nvPr/>
        </p:nvSpPr>
        <p:spPr>
          <a:xfrm>
            <a:off x="2957400" y="616428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P 8 I-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ole tekstowe 50"/>
          <p:cNvSpPr/>
          <p:nvPr/>
        </p:nvSpPr>
        <p:spPr>
          <a:xfrm>
            <a:off x="768240" y="6164280"/>
            <a:ext cx="129564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022/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rostokąt 46"/>
          <p:cNvSpPr/>
          <p:nvPr/>
        </p:nvSpPr>
        <p:spPr>
          <a:xfrm>
            <a:off x="611280" y="5329080"/>
            <a:ext cx="7921440" cy="763920"/>
          </a:xfrm>
          <a:prstGeom prst="rect">
            <a:avLst/>
          </a:prstGeom>
          <a:solidFill>
            <a:srgbClr val="dce6f2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rostokąt 45"/>
          <p:cNvSpPr/>
          <p:nvPr/>
        </p:nvSpPr>
        <p:spPr>
          <a:xfrm>
            <a:off x="611280" y="4365720"/>
            <a:ext cx="7921440" cy="792000"/>
          </a:xfrm>
          <a:prstGeom prst="rect">
            <a:avLst/>
          </a:prstGeom>
          <a:solidFill>
            <a:srgbClr val="dce6f2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rostokąt 44"/>
          <p:cNvSpPr/>
          <p:nvPr/>
        </p:nvSpPr>
        <p:spPr>
          <a:xfrm>
            <a:off x="611280" y="3429000"/>
            <a:ext cx="7921440" cy="792000"/>
          </a:xfrm>
          <a:prstGeom prst="rect">
            <a:avLst/>
          </a:prstGeom>
          <a:solidFill>
            <a:srgbClr val="dce6f2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rostokąt 43"/>
          <p:cNvSpPr/>
          <p:nvPr/>
        </p:nvSpPr>
        <p:spPr>
          <a:xfrm>
            <a:off x="611280" y="2492280"/>
            <a:ext cx="7921440" cy="792360"/>
          </a:xfrm>
          <a:prstGeom prst="rect">
            <a:avLst/>
          </a:prstGeom>
          <a:solidFill>
            <a:srgbClr val="dce6f2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rostokąt 42"/>
          <p:cNvSpPr/>
          <p:nvPr/>
        </p:nvSpPr>
        <p:spPr>
          <a:xfrm>
            <a:off x="611280" y="1557360"/>
            <a:ext cx="7921440" cy="792000"/>
          </a:xfrm>
          <a:prstGeom prst="rect">
            <a:avLst/>
          </a:prstGeom>
          <a:solidFill>
            <a:srgbClr val="dce6f2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rostokąt 41"/>
          <p:cNvSpPr/>
          <p:nvPr/>
        </p:nvSpPr>
        <p:spPr>
          <a:xfrm>
            <a:off x="611280" y="620640"/>
            <a:ext cx="7921440" cy="720720"/>
          </a:xfrm>
          <a:prstGeom prst="rect">
            <a:avLst/>
          </a:prstGeom>
          <a:solidFill>
            <a:srgbClr val="d7e4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ole tekstowe 1"/>
          <p:cNvSpPr/>
          <p:nvPr/>
        </p:nvSpPr>
        <p:spPr>
          <a:xfrm>
            <a:off x="2916360" y="79200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P 6 I-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ole tekstowe 2"/>
          <p:cNvSpPr/>
          <p:nvPr/>
        </p:nvSpPr>
        <p:spPr>
          <a:xfrm>
            <a:off x="2916360" y="177336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P 8 I-V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ole tekstowe 3"/>
          <p:cNvSpPr/>
          <p:nvPr/>
        </p:nvSpPr>
        <p:spPr>
          <a:xfrm>
            <a:off x="2916360" y="270828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P 8 I-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ole tekstowe 4"/>
          <p:cNvSpPr/>
          <p:nvPr/>
        </p:nvSpPr>
        <p:spPr>
          <a:xfrm>
            <a:off x="755640" y="765000"/>
            <a:ext cx="129528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016/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ole tekstowe 5"/>
          <p:cNvSpPr/>
          <p:nvPr/>
        </p:nvSpPr>
        <p:spPr>
          <a:xfrm>
            <a:off x="755640" y="1773360"/>
            <a:ext cx="129528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017/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ole tekstowe 6"/>
          <p:cNvSpPr/>
          <p:nvPr/>
        </p:nvSpPr>
        <p:spPr>
          <a:xfrm>
            <a:off x="755640" y="2708280"/>
            <a:ext cx="129528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018/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ole tekstowe 7"/>
          <p:cNvSpPr/>
          <p:nvPr/>
        </p:nvSpPr>
        <p:spPr>
          <a:xfrm>
            <a:off x="755640" y="3614760"/>
            <a:ext cx="129528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019/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ole tekstowe 8"/>
          <p:cNvSpPr/>
          <p:nvPr/>
        </p:nvSpPr>
        <p:spPr>
          <a:xfrm>
            <a:off x="4929120" y="81900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G  3 I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ole tekstowe 9"/>
          <p:cNvSpPr/>
          <p:nvPr/>
        </p:nvSpPr>
        <p:spPr>
          <a:xfrm>
            <a:off x="4932360" y="177336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G  3 II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ole tekstowe 10"/>
          <p:cNvSpPr/>
          <p:nvPr/>
        </p:nvSpPr>
        <p:spPr>
          <a:xfrm>
            <a:off x="4932360" y="270828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G  3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ole tekstowe 11"/>
          <p:cNvSpPr/>
          <p:nvPr/>
        </p:nvSpPr>
        <p:spPr>
          <a:xfrm>
            <a:off x="7023240" y="83664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SZ 3  I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ole tekstowe 12"/>
          <p:cNvSpPr/>
          <p:nvPr/>
        </p:nvSpPr>
        <p:spPr>
          <a:xfrm>
            <a:off x="7029360" y="1628640"/>
            <a:ext cx="1368360" cy="64260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ZSZ 3 II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BS 3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ole tekstowe 13"/>
          <p:cNvSpPr/>
          <p:nvPr/>
        </p:nvSpPr>
        <p:spPr>
          <a:xfrm>
            <a:off x="7020000" y="2565360"/>
            <a:ext cx="1368360" cy="64260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ZSZ 3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BS 3 I-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Łącznik prosty ze strzałką 15"/>
          <p:cNvCxnSpPr>
            <a:stCxn id="159" idx="3"/>
          </p:cNvCxnSpPr>
          <p:nvPr/>
        </p:nvCxnSpPr>
        <p:spPr>
          <a:xfrm>
            <a:off x="6297120" y="1003320"/>
            <a:ext cx="723240" cy="11311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6" name="Łącznik prosty ze strzałką 17"/>
          <p:cNvCxnSpPr>
            <a:stCxn id="160" idx="3"/>
          </p:cNvCxnSpPr>
          <p:nvPr/>
        </p:nvCxnSpPr>
        <p:spPr>
          <a:xfrm>
            <a:off x="6300720" y="1956960"/>
            <a:ext cx="720000" cy="11120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67" name="pole tekstowe 18"/>
          <p:cNvSpPr/>
          <p:nvPr/>
        </p:nvSpPr>
        <p:spPr>
          <a:xfrm>
            <a:off x="7032600" y="3594240"/>
            <a:ext cx="1368360" cy="368280"/>
          </a:xfrm>
          <a:prstGeom prst="rect">
            <a:avLst/>
          </a:prstGeom>
          <a:solidFill>
            <a:srgbClr val="ccc1da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BS 3 I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Łącznik prosty ze strzałką 20"/>
          <p:cNvCxnSpPr>
            <a:stCxn id="161" idx="3"/>
            <a:endCxn id="167" idx="1"/>
          </p:cNvCxnSpPr>
          <p:nvPr/>
        </p:nvCxnSpPr>
        <p:spPr>
          <a:xfrm>
            <a:off x="6300360" y="2894040"/>
            <a:ext cx="732600" cy="8848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Łącznik prosty ze strzałką 22"/>
          <p:cNvCxnSpPr>
            <a:stCxn id="154" idx="3"/>
            <a:endCxn id="167" idx="1"/>
          </p:cNvCxnSpPr>
          <p:nvPr/>
        </p:nvCxnSpPr>
        <p:spPr>
          <a:xfrm>
            <a:off x="4284360" y="2894040"/>
            <a:ext cx="2748600" cy="88488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170" name="pole tekstowe 25"/>
          <p:cNvSpPr/>
          <p:nvPr/>
        </p:nvSpPr>
        <p:spPr>
          <a:xfrm>
            <a:off x="2916360" y="357192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P 8 I-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ole tekstowe 26"/>
          <p:cNvSpPr/>
          <p:nvPr/>
        </p:nvSpPr>
        <p:spPr>
          <a:xfrm>
            <a:off x="7032600" y="4551480"/>
            <a:ext cx="1368360" cy="368280"/>
          </a:xfrm>
          <a:prstGeom prst="rect">
            <a:avLst/>
          </a:prstGeom>
          <a:solidFill>
            <a:srgbClr val="ccc1da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BS 2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ole tekstowe 27"/>
          <p:cNvSpPr/>
          <p:nvPr/>
        </p:nvSpPr>
        <p:spPr>
          <a:xfrm>
            <a:off x="7032600" y="5497560"/>
            <a:ext cx="1368360" cy="368280"/>
          </a:xfrm>
          <a:prstGeom prst="rect">
            <a:avLst/>
          </a:prstGeom>
          <a:solidFill>
            <a:srgbClr val="ccc1da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BS 2 I-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31"/>
          <p:cNvSpPr/>
          <p:nvPr/>
        </p:nvSpPr>
        <p:spPr>
          <a:xfrm>
            <a:off x="2916360" y="457200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P 8 I-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ole tekstowe 34"/>
          <p:cNvSpPr/>
          <p:nvPr/>
        </p:nvSpPr>
        <p:spPr>
          <a:xfrm>
            <a:off x="2916360" y="549756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P 8 I-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ole tekstowe 37"/>
          <p:cNvSpPr/>
          <p:nvPr/>
        </p:nvSpPr>
        <p:spPr>
          <a:xfrm>
            <a:off x="755640" y="4560840"/>
            <a:ext cx="129528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020/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38"/>
          <p:cNvSpPr/>
          <p:nvPr/>
        </p:nvSpPr>
        <p:spPr>
          <a:xfrm>
            <a:off x="755640" y="5508720"/>
            <a:ext cx="129528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021/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ole tekstowe 39"/>
          <p:cNvSpPr/>
          <p:nvPr/>
        </p:nvSpPr>
        <p:spPr>
          <a:xfrm>
            <a:off x="1547640" y="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zebieg rekrutacji – branżowa I stop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Łącznik prosty ze strzałką 48"/>
          <p:cNvCxnSpPr>
            <a:stCxn id="167" idx="2"/>
            <a:endCxn id="171" idx="0"/>
          </p:cNvCxnSpPr>
          <p:nvPr/>
        </p:nvCxnSpPr>
        <p:spPr>
          <a:xfrm>
            <a:off x="7716600" y="3962520"/>
            <a:ext cx="1080" cy="589680"/>
          </a:xfrm>
          <a:prstGeom prst="straightConnector1">
            <a:avLst/>
          </a:prstGeom>
          <a:ln w="38160">
            <a:solidFill>
              <a:srgbClr val="0d0d0d"/>
            </a:solidFill>
            <a:prstDash val="sysDash"/>
            <a:miter/>
            <a:tailEnd len="med" type="arrow" w="med"/>
          </a:ln>
        </p:spPr>
      </p:cxnSp>
      <p:cxnSp>
        <p:nvCxnSpPr>
          <p:cNvPr id="179" name="Łącznik prosty ze strzałką 52"/>
          <p:cNvCxnSpPr>
            <a:stCxn id="171" idx="2"/>
            <a:endCxn id="172" idx="0"/>
          </p:cNvCxnSpPr>
          <p:nvPr/>
        </p:nvCxnSpPr>
        <p:spPr>
          <a:xfrm>
            <a:off x="7716600" y="4920840"/>
            <a:ext cx="1080" cy="577080"/>
          </a:xfrm>
          <a:prstGeom prst="straightConnector1">
            <a:avLst/>
          </a:prstGeom>
          <a:ln w="38160">
            <a:solidFill>
              <a:srgbClr val="0d0d0d"/>
            </a:solidFill>
            <a:prstDash val="sys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ole tekstowe 4"/>
          <p:cNvSpPr/>
          <p:nvPr/>
        </p:nvSpPr>
        <p:spPr>
          <a:xfrm>
            <a:off x="250920" y="765000"/>
            <a:ext cx="864216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Od roku szkolnego 2017/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owa podstawa programow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ształcenia ogólnego dla 8-letniej szkoły podstawowej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 klasach I, IV i VI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ształcenia w zawodach 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lasach I branżowej szkoły I stop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lasach I dotychczasowego czteroletniego techniku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emestrze I szkoły policealn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owe ramowe plany nauczania w szkołach publicz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ole tekstowe 5"/>
          <p:cNvSpPr/>
          <p:nvPr/>
        </p:nvSpPr>
        <p:spPr>
          <a:xfrm>
            <a:off x="1116000" y="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drażania reformy - term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ole tekstowe 4"/>
          <p:cNvSpPr/>
          <p:nvPr/>
        </p:nvSpPr>
        <p:spPr>
          <a:xfrm>
            <a:off x="250920" y="765000"/>
            <a:ext cx="87138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Do 30 listopada 2017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Uchwały w sprawie stwierdzenia przekształcenia szkoł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Do 30 listopada 2017 r./do 30 listopada 2019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tatuty dotychczasowych przedszkoli, szkół podstawowych,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zkół specjalnych przysposabiających do pracy, szkół policealnych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 gimnazjów, zachowują moc do dnia wejścia w życie statutów wydanych na podstawie ustawy Prawo oświatow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Od roku szkolnego 2018/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Egzamin ósmoklasisty jako obowiązkowy egzamin zewnętrzny,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 podstawie wymagań określonych w podstawie programowej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(przedmioty obowiązkowe: język polski, matematyka, język obcy nowożytn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ole tekstowe 5"/>
          <p:cNvSpPr/>
          <p:nvPr/>
        </p:nvSpPr>
        <p:spPr>
          <a:xfrm>
            <a:off x="1116000" y="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drażania reformy - term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ole tekstowe 4"/>
          <p:cNvSpPr/>
          <p:nvPr/>
        </p:nvSpPr>
        <p:spPr>
          <a:xfrm>
            <a:off x="179280" y="549360"/>
            <a:ext cx="8785440" cy="54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1 września 2019 r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otychczasowe 3-letnie liceum ogólnokształcące stanie się 4-letnim liceum ogólnokształcący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espół szkół, w skład którego wchodzi gimnazjum i liceum ogólnokształcące, stanie się 4-letnim liceum ogólnokształcący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1 września 2020 r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ozpocznie się stopniowe wygaszanie 3-letniego liceum ogólnokształcącego – koniec cyklu kształcenia do 31 sierpnia 2022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1 września 2019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otychczasowe 4-letnie technikum zostanie przekształcone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 5-letnie technik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1 września 2020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Utworzenie branżowej szkoły II stop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5"/>
          <p:cNvSpPr/>
          <p:nvPr/>
        </p:nvSpPr>
        <p:spPr>
          <a:xfrm>
            <a:off x="1116000" y="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drażania reformy - term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ole tekstowe 2"/>
          <p:cNvSpPr/>
          <p:nvPr/>
        </p:nvSpPr>
        <p:spPr>
          <a:xfrm>
            <a:off x="250920" y="907920"/>
            <a:ext cx="8713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Od roku szkolnego 2017/201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jęcia z zakresu </a:t>
            </a:r>
            <a:r>
              <a:rPr b="1" lang="pl-PL" sz="2000" spc="-1" strike="noStrike">
                <a:solidFill>
                  <a:srgbClr val="3333ff"/>
                </a:solidFill>
                <a:latin typeface="Arial"/>
              </a:rPr>
              <a:t>doradztwa zawodowego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ędą realizowane w oparciu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 program przygotowany przez nauczyciela realizującego te zajęcia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 dopuszczony do użytku przez dyrektora szkoły, po zasięgnięciu opinii rady pedagogiczn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gram, zawiera treści dotyczące informacji o zawodach, kwalifikacjach i stanowiskach pracy oraz możliwościach uzyskania kwalifikacji zgodnych z potrzebami rynku pracy i predyspozycjami zawodowy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ole tekstowe 5"/>
          <p:cNvSpPr/>
          <p:nvPr/>
        </p:nvSpPr>
        <p:spPr>
          <a:xfrm>
            <a:off x="1042920" y="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drażania reformy – doradztwo zawodo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ole tekstowe 1"/>
          <p:cNvSpPr/>
          <p:nvPr/>
        </p:nvSpPr>
        <p:spPr>
          <a:xfrm>
            <a:off x="250920" y="620640"/>
            <a:ext cx="856908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W okresie do dnia 31 sierpnia 2020 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ff"/>
                </a:solidFill>
                <a:latin typeface="Arial"/>
              </a:rPr>
              <a:t>Pierwszeństwo w zatrudnieniu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 wolnych stanowiskach pracy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la nauczycieli w szkołach prowadzonych przez jednostki samorządu terytorialnego przysługu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1) nauczycielom </a:t>
            </a:r>
            <a:r>
              <a:rPr b="1" lang="pl-PL" sz="2000" spc="-1" strike="noStrike">
                <a:solidFill>
                  <a:srgbClr val="3333ff"/>
                </a:solidFill>
                <a:latin typeface="Arial"/>
              </a:rPr>
              <a:t>przeniesionym w stan nieczynny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, nauczycielom, którzy otrzymali informację o przeniesieniu ich w stan nieczynny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 początkiem kolejnego roku szkolnego, oraz nauczycielom, którzy złożyli wniosek o przeniesienie w stan nieczynny w trybie art. 20 ust. 5c ustawy – Karta Nauczyciel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2) nauczycielom, </a:t>
            </a:r>
            <a:r>
              <a:rPr b="1" lang="pl-PL" sz="2000" spc="-1" strike="noStrike">
                <a:solidFill>
                  <a:srgbClr val="3333ff"/>
                </a:solidFill>
                <a:latin typeface="Arial"/>
              </a:rPr>
              <a:t>z którymi rozwiązano stosunek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acy w trybie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rt. 226 ust. 2, z dniem wypowiedzenia im stosunku p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ole tekstowe 2"/>
          <p:cNvSpPr/>
          <p:nvPr/>
        </p:nvSpPr>
        <p:spPr>
          <a:xfrm>
            <a:off x="1619280" y="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auczyciele – wolne stanowiska p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337000"/>
          </a:xfrm>
          <a:prstGeom prst="rect">
            <a:avLst/>
          </a:prstGeom>
          <a:ln w="0">
            <a:noFill/>
          </a:ln>
        </p:spPr>
      </p:pic>
      <p:sp>
        <p:nvSpPr>
          <p:cNvPr id="191" name="pole tekstowe 2"/>
          <p:cNvSpPr/>
          <p:nvPr/>
        </p:nvSpPr>
        <p:spPr>
          <a:xfrm>
            <a:off x="2124000" y="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ferty pracy dla nauczyci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ole tekstowe 3"/>
          <p:cNvSpPr/>
          <p:nvPr/>
        </p:nvSpPr>
        <p:spPr>
          <a:xfrm>
            <a:off x="0" y="5950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Art. 224.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1. W okresie do dnia 31 sierpnia 2023 r. dyrektor szkoły prowadzonej przez jednostkę samorządu terytorialnego informuje kuratora oświaty sprawującego nadzór pedagogiczny nad szkołą o wolnych stanowiskach pracy dla nauczycie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9360" y="0"/>
            <a:ext cx="9134640" cy="6553080"/>
          </a:xfrm>
          <a:prstGeom prst="rect">
            <a:avLst/>
          </a:prstGeom>
          <a:ln w="0">
            <a:noFill/>
          </a:ln>
        </p:spPr>
      </p:pic>
      <p:sp>
        <p:nvSpPr>
          <p:cNvPr id="52" name="Prostokąt 4"/>
          <p:cNvSpPr/>
          <p:nvPr/>
        </p:nvSpPr>
        <p:spPr>
          <a:xfrm>
            <a:off x="3257640" y="6488280"/>
            <a:ext cx="588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rząd Statystyczny w Gdańsku, listopad 2012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Centralny rejestr orzeczeń dyscyplinarny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0560" y="836640"/>
            <a:ext cx="8713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  <a:ea typeface="Arial"/>
              </a:rPr>
              <a:t>Począwszy od dnia 1 marca 2017 r</a:t>
            </a:r>
            <a:r>
              <a:rPr b="1" lang="pl-PL" sz="2000" spc="-1" strike="noStrike">
                <a:solidFill>
                  <a:srgbClr val="3333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Dyrektor szkoły ustala za pomocą narzędzia informatycznego udostępnionego przez Ministra Edukacji Narodowej, czy numer PESEL nauczyciela lub osoby ubiegającej się o zatrudnienie na stanowisku nauczyciela, znajduje się w rejestrz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Rejestr zawiera: dane identyfikujące nauczyciela, rodzaj orzeczonej kary dyscyplinarnej oraz okres ukarania, oznaczenie komisji dyscyplinarnej, która wydała prawomocne orzeczenie,</a:t>
            </a:r>
            <a:br>
              <a:rPr sz="2000"/>
            </a:b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raz z sygnaturą sprawy, datę wydania i uprawomocnienia się orzeczenia, datę i miejsce popełnienia czynu, którego dotyczy orzeczenie, datę doręczenia nauczycielowi orzeczen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ole tekstowe 9"/>
          <p:cNvSpPr/>
          <p:nvPr/>
        </p:nvSpPr>
        <p:spPr>
          <a:xfrm>
            <a:off x="179280" y="0"/>
            <a:ext cx="8615520" cy="549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owe podstawy programowe – szkolenia dla nauczycie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ole tekstowe 1"/>
          <p:cNvSpPr/>
          <p:nvPr/>
        </p:nvSpPr>
        <p:spPr>
          <a:xfrm>
            <a:off x="179280" y="981000"/>
            <a:ext cx="8785440" cy="33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marL="22716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Od 27 lutego 2017 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ozpoczął się cykl konferencji dotyczących wdrażania nowej podstawy programowej z udziałem dyrektorów i pracowników placówek doskonalenia nauczycieli, a także nauczycieli-konsultantów, nauczycieli-doradców metodycznych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Do końca obecnego roku szkoln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lacówki doskonalenia nauczycieli zaplanowały w całej Polsce </a:t>
            </a:r>
            <a:r>
              <a:rPr b="1" lang="pl-PL" sz="2000" spc="-1" strike="noStrike">
                <a:solidFill>
                  <a:srgbClr val="3333ff"/>
                </a:solidFill>
                <a:latin typeface="Arial"/>
              </a:rPr>
              <a:t>4056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szkoleń z wdrażania nowej podstawy programowej, w których udział weźmie </a:t>
            </a:r>
            <a:r>
              <a:rPr b="1" lang="pl-PL" sz="2000" spc="-1" strike="noStrike">
                <a:solidFill>
                  <a:srgbClr val="3333ff"/>
                </a:solidFill>
                <a:latin typeface="Arial"/>
              </a:rPr>
              <a:t>227 356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uczycie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ole tekstowe 9"/>
          <p:cNvSpPr/>
          <p:nvPr/>
        </p:nvSpPr>
        <p:spPr>
          <a:xfrm>
            <a:off x="684360" y="0"/>
            <a:ext cx="7564320" cy="476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ace nad przygotowaniem podręcznik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ole tekstowe 1"/>
          <p:cNvSpPr/>
          <p:nvPr/>
        </p:nvSpPr>
        <p:spPr>
          <a:xfrm>
            <a:off x="179280" y="836640"/>
            <a:ext cx="871380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Do końca czerwca 2017 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zygotowane zostaną podręczniki do nowej podstawy programowe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ręczniki, materiały edukacyjne, materiały ćwiczeniowe uczniowie szkół podstawowych oraz klas gimnazjalnych otrzymają bezpłatnie bezpośrednio w swoich szkoła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ole tekstowe 2"/>
          <p:cNvSpPr/>
          <p:nvPr/>
        </p:nvSpPr>
        <p:spPr>
          <a:xfrm>
            <a:off x="1332000" y="2708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24000" y="685800"/>
            <a:ext cx="4968720" cy="6172200"/>
          </a:xfrm>
          <a:prstGeom prst="rect">
            <a:avLst/>
          </a:prstGeom>
          <a:ln w="0">
            <a:noFill/>
          </a:ln>
        </p:spPr>
      </p:pic>
      <p:sp>
        <p:nvSpPr>
          <p:cNvPr id="54" name="pole tekstowe 3"/>
          <p:cNvSpPr/>
          <p:nvPr/>
        </p:nvSpPr>
        <p:spPr>
          <a:xfrm>
            <a:off x="5796000" y="6334200"/>
            <a:ext cx="33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rząd Statystyczny  w Gdańs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tan ludności na dzień 12 XII 2013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ole tekstowe 4"/>
          <p:cNvSpPr/>
          <p:nvPr/>
        </p:nvSpPr>
        <p:spPr>
          <a:xfrm>
            <a:off x="684360" y="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GNOZA DEMOGRAFICZNA LUDNOŚCI NA LATA 2014-20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EDŁUG POWIATÓW W WOJEWÓDZTWIE POMORSK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ole tekstowe 5"/>
          <p:cNvSpPr/>
          <p:nvPr/>
        </p:nvSpPr>
        <p:spPr>
          <a:xfrm>
            <a:off x="4932360" y="1125360"/>
            <a:ext cx="3887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 2050 r. w porównaniu z 2013 r. we wszystkich powiat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mniejszy się udział osób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 wieku 0-14 lat w ogó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iczbie ludności danego powia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ajmniejszy spad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będzie odnotowany w Gdańsku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(o 0,2 p.proc.) i w Sopo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(o 0,6 p.proc.), a największy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 powiecie kościersk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(o 5,1 p.proc.) i malborskim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(o 5,0 p.proc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147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Liczba uczniów w poszczególnych typach szkół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(lata 2007-201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785440" cy="5184720"/>
          </a:xfrm>
          <a:prstGeom prst="rect">
            <a:avLst/>
          </a:prstGeom>
          <a:ln w="0">
            <a:noFill/>
          </a:ln>
        </p:spPr>
      </p:pic>
      <p:sp>
        <p:nvSpPr>
          <p:cNvPr id="59" name="pole tekstowe 3"/>
          <p:cNvSpPr/>
          <p:nvPr/>
        </p:nvSpPr>
        <p:spPr>
          <a:xfrm>
            <a:off x="5724360" y="6550200"/>
            <a:ext cx="34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pracowanie własne wg danych z S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79280" y="1125360"/>
          <a:ext cx="8785440" cy="3814920"/>
        </p:xfrm>
        <a:graphic>
          <a:graphicData uri="http://schemas.openxmlformats.org/drawingml/2006/table">
            <a:tbl>
              <a:tblPr/>
              <a:tblGrid>
                <a:gridCol w="2232000"/>
                <a:gridCol w="1440000"/>
                <a:gridCol w="1474920"/>
                <a:gridCol w="1477800"/>
                <a:gridCol w="2160720"/>
              </a:tblGrid>
              <a:tr h="1157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g danych S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szkół publicznych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la młodzież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nauczyciel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uczniów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uczniów przypadająca na jednego nauczycie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85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dzień 30.IX.2016 r.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84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dzień 30.IX.2015 r.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6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1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dzień 30.IX.2014 r.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4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59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ytuł 1"/>
          <p:cNvSpPr/>
          <p:nvPr/>
        </p:nvSpPr>
        <p:spPr>
          <a:xfrm>
            <a:off x="179280" y="0"/>
            <a:ext cx="87854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iczba uczniów na jednego nauczyci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lata 2014-20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79280" y="1125360"/>
          <a:ext cx="8785440" cy="4237200"/>
        </p:xfrm>
        <a:graphic>
          <a:graphicData uri="http://schemas.openxmlformats.org/drawingml/2006/table">
            <a:tbl>
              <a:tblPr/>
              <a:tblGrid>
                <a:gridCol w="725760"/>
                <a:gridCol w="1002960"/>
                <a:gridCol w="935280"/>
                <a:gridCol w="792000"/>
                <a:gridCol w="1008000"/>
                <a:gridCol w="914400"/>
                <a:gridCol w="814680"/>
                <a:gridCol w="988920"/>
                <a:gridCol w="814320"/>
                <a:gridCol w="789120"/>
              </a:tblGrid>
              <a:tr h="311760"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 SIO 30.IX.2016 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 SIO 30.IX.2015 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 SIO 30.IX.2014 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oddziałó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ucznió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uczniów na oddzia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oddziałó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ucznió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uczniów na oddzia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oddziałó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ucznió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uczniów na oddzia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3117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5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117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117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117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6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117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6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3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117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117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117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117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sp>
        <p:nvSpPr>
          <p:cNvPr id="63" name="pole tekstowe 2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iczba uczniów w odd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lata 2014, 2015, 20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ole tekstowe 9"/>
          <p:cNvSpPr/>
          <p:nvPr/>
        </p:nvSpPr>
        <p:spPr>
          <a:xfrm>
            <a:off x="0" y="0"/>
            <a:ext cx="6377040" cy="1087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ts val="2662"/>
              </a:lnSpc>
              <a:tabLst>
                <a:tab algn="l" pos="0"/>
                <a:tab algn="l" pos="303120"/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az 14" descr="Bez tytułu.png"/>
          <p:cNvPicPr/>
          <p:nvPr/>
        </p:nvPicPr>
        <p:blipFill>
          <a:blip r:embed="rId1"/>
          <a:stretch/>
        </p:blipFill>
        <p:spPr>
          <a:xfrm>
            <a:off x="179280" y="2085840"/>
            <a:ext cx="8964720" cy="4772160"/>
          </a:xfrm>
          <a:prstGeom prst="rect">
            <a:avLst/>
          </a:prstGeom>
          <a:ln w="0">
            <a:noFill/>
          </a:ln>
        </p:spPr>
      </p:pic>
      <p:sp>
        <p:nvSpPr>
          <p:cNvPr id="66" name="pole tekstowe 3"/>
          <p:cNvSpPr/>
          <p:nvPr/>
        </p:nvSpPr>
        <p:spPr>
          <a:xfrm>
            <a:off x="1116000" y="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drażanie reformy edukacji - uchwał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rostokąt 4"/>
          <p:cNvSpPr/>
          <p:nvPr/>
        </p:nvSpPr>
        <p:spPr>
          <a:xfrm>
            <a:off x="179280" y="476280"/>
            <a:ext cx="878544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Do 31 marca 2017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rgan stanowiący jednostkę samorządu terytorialnego (JST)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 otrzymaniu pozytywnej opinii właściwego kuratorium oświaty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(oraz opinii związkowej), podejmie uchwałę w sprawie dostosowania sieci szkół do nowego ustroju szkoln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ole tekstowe 4"/>
          <p:cNvSpPr/>
          <p:nvPr/>
        </p:nvSpPr>
        <p:spPr>
          <a:xfrm>
            <a:off x="684360" y="1628640"/>
            <a:ext cx="475128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ześcioletnia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zkoła podstaw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ole tekstowe 40"/>
          <p:cNvSpPr/>
          <p:nvPr/>
        </p:nvSpPr>
        <p:spPr>
          <a:xfrm>
            <a:off x="684360" y="3933720"/>
            <a:ext cx="4751280" cy="825480"/>
          </a:xfrm>
          <a:prstGeom prst="rect">
            <a:avLst/>
          </a:prstGeom>
          <a:solidFill>
            <a:srgbClr val="92d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śmioletnia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zkoła podstaw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Łącznik prosty ze strzałką 42"/>
          <p:cNvCxnSpPr>
            <a:stCxn id="68" idx="2"/>
            <a:endCxn id="69" idx="0"/>
          </p:cNvCxnSpPr>
          <p:nvPr/>
        </p:nvCxnSpPr>
        <p:spPr>
          <a:xfrm>
            <a:off x="3058920" y="2459160"/>
            <a:ext cx="1080" cy="14752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71" name="pole tekstowe 5"/>
          <p:cNvSpPr/>
          <p:nvPr/>
        </p:nvSpPr>
        <p:spPr>
          <a:xfrm>
            <a:off x="0" y="69228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Od 1 września 2017 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ole tekstowe 10"/>
          <p:cNvSpPr/>
          <p:nvPr/>
        </p:nvSpPr>
        <p:spPr>
          <a:xfrm>
            <a:off x="6588000" y="1844640"/>
            <a:ext cx="180036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zkoła filial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Łącznik prosty ze strzałką 12"/>
          <p:cNvCxnSpPr>
            <a:stCxn id="68" idx="3"/>
            <a:endCxn id="72" idx="1"/>
          </p:cNvCxnSpPr>
          <p:nvPr/>
        </p:nvCxnSpPr>
        <p:spPr>
          <a:xfrm flipV="1">
            <a:off x="5435280" y="2028600"/>
            <a:ext cx="1152720" cy="16560"/>
          </a:xfrm>
          <a:prstGeom prst="straightConnector1">
            <a:avLst/>
          </a:prstGeom>
          <a:ln w="3816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74" name="pole tekstowe 16"/>
          <p:cNvSpPr/>
          <p:nvPr/>
        </p:nvSpPr>
        <p:spPr>
          <a:xfrm>
            <a:off x="6588000" y="4076640"/>
            <a:ext cx="1800360" cy="368280"/>
          </a:xfrm>
          <a:prstGeom prst="rect">
            <a:avLst/>
          </a:prstGeom>
          <a:solidFill>
            <a:srgbClr val="d7e4bd"/>
          </a:solidFill>
          <a:ln w="381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zkoła filial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Łącznik prosty ze strzałką 17"/>
          <p:cNvCxnSpPr>
            <a:endCxn id="74" idx="1"/>
          </p:cNvCxnSpPr>
          <p:nvPr/>
        </p:nvCxnSpPr>
        <p:spPr>
          <a:xfrm flipV="1">
            <a:off x="5435280" y="4262040"/>
            <a:ext cx="1152720" cy="15120"/>
          </a:xfrm>
          <a:prstGeom prst="straightConnector1">
            <a:avLst/>
          </a:prstGeom>
          <a:ln w="3816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76" name="pole tekstowe 11"/>
          <p:cNvSpPr/>
          <p:nvPr/>
        </p:nvSpPr>
        <p:spPr>
          <a:xfrm>
            <a:off x="1116000" y="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drażanie reformy edukacji - przekształc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Łącznik prosty ze strzałką 13"/>
          <p:cNvCxnSpPr>
            <a:stCxn id="72" idx="2"/>
            <a:endCxn id="74" idx="0"/>
          </p:cNvCxnSpPr>
          <p:nvPr/>
        </p:nvCxnSpPr>
        <p:spPr>
          <a:xfrm>
            <a:off x="7488000" y="2214720"/>
            <a:ext cx="1080" cy="1862640"/>
          </a:xfrm>
          <a:prstGeom prst="straightConnector1">
            <a:avLst/>
          </a:prstGeom>
          <a:ln w="38160">
            <a:solidFill>
              <a:srgbClr val="4a7ebb"/>
            </a:solidFill>
            <a:prstDash val="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ole tekstowe 4"/>
          <p:cNvSpPr/>
          <p:nvPr/>
        </p:nvSpPr>
        <p:spPr>
          <a:xfrm>
            <a:off x="2195640" y="1123920"/>
            <a:ext cx="47527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otychczasowe gimnazj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ole tekstowe 5"/>
          <p:cNvSpPr/>
          <p:nvPr/>
        </p:nvSpPr>
        <p:spPr>
          <a:xfrm>
            <a:off x="250920" y="1987560"/>
            <a:ext cx="2952720" cy="825480"/>
          </a:xfrm>
          <a:prstGeom prst="rect">
            <a:avLst/>
          </a:prstGeom>
          <a:solidFill>
            <a:srgbClr val="92d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śmioletnia szkoła podstaw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ole tekstowe 11"/>
          <p:cNvSpPr/>
          <p:nvPr/>
        </p:nvSpPr>
        <p:spPr>
          <a:xfrm>
            <a:off x="250920" y="3429000"/>
            <a:ext cx="2952720" cy="825480"/>
          </a:xfrm>
          <a:prstGeom prst="rect">
            <a:avLst/>
          </a:prstGeom>
          <a:solidFill>
            <a:srgbClr val="c6d9f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zyletnie liceum ogólnokształcą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ole tekstowe 12"/>
          <p:cNvSpPr/>
          <p:nvPr/>
        </p:nvSpPr>
        <p:spPr>
          <a:xfrm>
            <a:off x="250920" y="4869000"/>
            <a:ext cx="2881080" cy="825480"/>
          </a:xfrm>
          <a:prstGeom prst="rect">
            <a:avLst/>
          </a:prstGeom>
          <a:solidFill>
            <a:srgbClr val="fcd5b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teroletnie technik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ole tekstowe 13"/>
          <p:cNvSpPr/>
          <p:nvPr/>
        </p:nvSpPr>
        <p:spPr>
          <a:xfrm>
            <a:off x="5796000" y="2131920"/>
            <a:ext cx="3024000" cy="825480"/>
          </a:xfrm>
          <a:prstGeom prst="rect">
            <a:avLst/>
          </a:prstGeom>
          <a:solidFill>
            <a:srgbClr val="c6d9f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teroletnie liceum ogólnokształcą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ole tekstowe 14"/>
          <p:cNvSpPr/>
          <p:nvPr/>
        </p:nvSpPr>
        <p:spPr>
          <a:xfrm>
            <a:off x="5796000" y="3429000"/>
            <a:ext cx="3024000" cy="825480"/>
          </a:xfrm>
          <a:prstGeom prst="rect">
            <a:avLst/>
          </a:prstGeom>
          <a:solidFill>
            <a:srgbClr val="fcd5b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ęcioletnie technik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Łącznik prosty ze strzałką 18"/>
          <p:cNvCxnSpPr>
            <a:stCxn id="78" idx="2"/>
            <a:endCxn id="80" idx="3"/>
          </p:cNvCxnSpPr>
          <p:nvPr/>
        </p:nvCxnSpPr>
        <p:spPr>
          <a:xfrm flipH="1">
            <a:off x="3202920" y="1585440"/>
            <a:ext cx="1369080" cy="22582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Łącznik prosty ze strzałką 20"/>
          <p:cNvCxnSpPr>
            <a:stCxn id="78" idx="2"/>
            <a:endCxn id="82" idx="1"/>
          </p:cNvCxnSpPr>
          <p:nvPr/>
        </p:nvCxnSpPr>
        <p:spPr>
          <a:xfrm>
            <a:off x="4572000" y="1585440"/>
            <a:ext cx="1224720" cy="9630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Łącznik prosty ze strzałką 22"/>
          <p:cNvCxnSpPr>
            <a:endCxn id="81" idx="3"/>
          </p:cNvCxnSpPr>
          <p:nvPr/>
        </p:nvCxnSpPr>
        <p:spPr>
          <a:xfrm flipH="1">
            <a:off x="3131640" y="1555920"/>
            <a:ext cx="1512000" cy="37296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Łącznik prosty ze strzałką 24"/>
          <p:cNvCxnSpPr>
            <a:stCxn id="78" idx="2"/>
            <a:endCxn id="83" idx="1"/>
          </p:cNvCxnSpPr>
          <p:nvPr/>
        </p:nvCxnSpPr>
        <p:spPr>
          <a:xfrm>
            <a:off x="4572000" y="1585440"/>
            <a:ext cx="1224720" cy="22597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pole tekstowe 25"/>
          <p:cNvSpPr/>
          <p:nvPr/>
        </p:nvSpPr>
        <p:spPr>
          <a:xfrm>
            <a:off x="5796000" y="4795920"/>
            <a:ext cx="3024000" cy="825480"/>
          </a:xfrm>
          <a:prstGeom prst="rect">
            <a:avLst/>
          </a:prstGeom>
          <a:solidFill>
            <a:srgbClr val="e6e0e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nżowa szkoła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stop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Łącznik prosty ze strzałką 27"/>
          <p:cNvCxnSpPr>
            <a:stCxn id="78" idx="2"/>
            <a:endCxn id="88" idx="1"/>
          </p:cNvCxnSpPr>
          <p:nvPr/>
        </p:nvCxnSpPr>
        <p:spPr>
          <a:xfrm>
            <a:off x="4572000" y="1585800"/>
            <a:ext cx="1224720" cy="36266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Łącznik prosty ze strzałką 33"/>
          <p:cNvCxnSpPr>
            <a:stCxn id="78" idx="2"/>
            <a:endCxn id="79" idx="3"/>
          </p:cNvCxnSpPr>
          <p:nvPr/>
        </p:nvCxnSpPr>
        <p:spPr>
          <a:xfrm flipH="1">
            <a:off x="3202920" y="1585440"/>
            <a:ext cx="1369080" cy="8182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pole tekstowe 40"/>
          <p:cNvSpPr/>
          <p:nvPr/>
        </p:nvSpPr>
        <p:spPr>
          <a:xfrm>
            <a:off x="2124000" y="6021360"/>
            <a:ext cx="47516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Gimnazj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Łącznik prosty ze strzałką 42"/>
          <p:cNvCxnSpPr>
            <a:stCxn id="78" idx="2"/>
            <a:endCxn id="91" idx="0"/>
          </p:cNvCxnSpPr>
          <p:nvPr/>
        </p:nvCxnSpPr>
        <p:spPr>
          <a:xfrm flipH="1">
            <a:off x="4498200" y="1585440"/>
            <a:ext cx="73800" cy="4436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3" name="pole tekstowe 19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drażanie reformy edukacji – przekształcenie, włącz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ole tekstowe 17"/>
          <p:cNvSpPr/>
          <p:nvPr/>
        </p:nvSpPr>
        <p:spPr>
          <a:xfrm>
            <a:off x="358920" y="549360"/>
            <a:ext cx="87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Z dniem 1 września 2017, 1 września 2018 albo 1 września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5T05:48:00Z</dcterms:created>
  <dc:creator>Pracownik</dc:creator>
  <dc:description/>
  <dc:language>en-US</dc:language>
  <cp:lastModifiedBy>user</cp:lastModifiedBy>
  <dcterms:modified xsi:type="dcterms:W3CDTF">2017-05-09T18:43:47Z</dcterms:modified>
  <cp:revision>93</cp:revision>
  <dc:subject/>
  <dc:title>Slajd 1</dc:title>
</cp:coreProperties>
</file>